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92837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2447640"/>
            <a:ext cx="914256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224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8520" y="114300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9840" y="114300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244764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8520" y="244764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9840" y="244764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914256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92040" y="351000"/>
            <a:ext cx="8250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914256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224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447640"/>
            <a:ext cx="914256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2447640"/>
            <a:ext cx="914256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4224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8520" y="114300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9840" y="114300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244764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8520" y="244764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39840" y="2447640"/>
            <a:ext cx="294372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2040" y="351000"/>
            <a:ext cx="82504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2240" y="244764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240" y="1143000"/>
            <a:ext cx="446148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447640"/>
            <a:ext cx="9142560" cy="11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36880" y="6948360"/>
            <a:ext cx="5970600" cy="479520"/>
          </a:xfrm>
          <a:prstGeom prst="roundRect">
            <a:avLst>
              <a:gd name="adj" fmla="val 3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36520" y="6948360"/>
            <a:ext cx="441360" cy="4032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0920" y="6904080"/>
            <a:ext cx="9548640" cy="144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2320" y="6958440"/>
            <a:ext cx="14702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1014480"/>
            <a:ext cx="9526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00920" y="6945840"/>
            <a:ext cx="12510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9155160" y="6942240"/>
            <a:ext cx="668160" cy="401400"/>
            <a:chOff x="9155160" y="6942240"/>
            <a:chExt cx="668160" cy="40140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9155160" y="6942240"/>
              <a:ext cx="66816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441360" y="7101720"/>
              <a:ext cx="83880" cy="8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4"/>
          <a:srcRect l="0" t="0" r="0" b="15000"/>
          <a:stretch/>
        </p:blipFill>
        <p:spPr>
          <a:xfrm>
            <a:off x="8405640" y="507960"/>
            <a:ext cx="1371600" cy="5191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914256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264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12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SzPct val="12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120" indent="-226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SzPct val="12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120" indent="-226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SzPct val="12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2771640" cy="756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9040" y="6530760"/>
            <a:ext cx="579600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055080" y="6588000"/>
            <a:ext cx="606600" cy="60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359920" y="6588000"/>
            <a:ext cx="488880" cy="60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6416640"/>
            <a:ext cx="6835680" cy="180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27360" y="6081480"/>
            <a:ext cx="549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51200" y="706104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</a:rPr>
              <a:t>Office of Scie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0080" y="714996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</a:rPr>
              <a:t>U.S. Department of Energ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20960" y="6591240"/>
            <a:ext cx="770040" cy="412920"/>
            <a:chOff x="2820960" y="6591240"/>
            <a:chExt cx="770040" cy="41292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2820960" y="6591240"/>
              <a:ext cx="77004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156840" y="6760440"/>
              <a:ext cx="90000" cy="9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6"/>
          <a:srcRect l="0" t="0" r="0" b="15000"/>
          <a:stretch/>
        </p:blipFill>
        <p:spPr>
          <a:xfrm>
            <a:off x="8143920" y="5797440"/>
            <a:ext cx="1670040" cy="63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677680" y="4465440"/>
            <a:ext cx="712332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rty Kraimer, ASD/Contr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23 Novembe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601720" y="1265040"/>
            <a:ext cx="65703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Started With EP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Seri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Recor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- Fieldtyp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2314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ieldtype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CHAR DBF_U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SHORT DBF_U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LONG DBF_U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FLOAT DBF_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E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INLINK DBF_OU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FWD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BF_NO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String Fiel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623520" cy="47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F_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length null terminated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access support max of 40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s of character strings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eld(VAL,DBF_STRIN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(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(“valu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group(GUI_DISP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Numeric Field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383760" cy="507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F_CHAR, … , DBF_DOU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 data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ttributes except size, extra, menu meaning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d file must defi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ial(SPC_DBAD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upport must impl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vt_dbaddr, get_array_info, put_array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pport by Database Configuration 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: Enumerated Fiel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383760" cy="47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F_EN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upport provides choices an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ecord, mbbiRec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field type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signed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upport MUST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get_enum_st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ut_enum_st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get_enum_st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Menu Fiel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623520" cy="46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BF_MEN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nu(&lt;menuname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oice(&lt;choicename&gt;,”&lt;choicevalue&gt;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ordtype(&lt;recordtype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eld(&lt;fieldname&gt;,DBF_MENU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nu(&lt;menuname&gt;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enu Field Examp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14256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(menuYesNo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oice(menuYesNo,”N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oice(menuYesNo,”Y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(PINI,DBF_MENU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(menuYes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Device Fiel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307440" cy="507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F_DE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mmon Field 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d to device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ssocia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Support must b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(DTYP,”Soft Channel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238"/>
              </a:spcBef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device definition lik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vice(ai,CONSTANT,devAiSoft,”Soft Channel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link Field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307440" cy="56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F_INLINK, DBF_OUT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tant link - Just initializ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V_LIN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ecome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B_LIN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A_LIN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definitions determine choic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sociated with choice is bus typ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ry details i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link.h. Used by device suppor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F_FWD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s another record which is processed if it is pas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dbComm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rd support call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recGblFwdLin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F_FWDLI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bScanFwdLin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recGblFwdLin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lementation: Generate include fil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307440" cy="530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 &lt;menu&gt;.h and &lt;recordtype&gt;.h include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ToMenuH generates &lt;menu&gt;.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should use generated files instead of hard coding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y standard records written before dbToMenuH existe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enuYesNo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def enum {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nuYesNoNO,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nuYesNoY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menuYesNo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enerate Include Files continue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ToRecordTypeH generates &lt;recordtype&gt;.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MUST use generat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code to compute field sizes, off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def struct aiRecord {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[29]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aiRecordNAME 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fdef GEN_SIZE_OFFS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iRecordSizeOffset(dbRecordType *p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{ … }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record support and associated device support is allowed to use the include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238"/>
              </a:spcBef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155160" cy="553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a Recor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database common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 Database Definition (.dbd)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C source file which implements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existing support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Dev Guide 3.14.6 - Chapters 5, 6, and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BaseApp example - xxx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/src/r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FIRST: Ask the question Wh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against a new recor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for a new recor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mplementation: Record Support Modu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17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7000"/>
          </a:bodyPr>
          <a:p>
            <a:pPr marL="126000" indent="-1260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Execution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0" indent="-1260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d vi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Record Support Entry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reate RSET - Record Support Entry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repor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initialize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long init_recor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long proces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rset &lt;recordtype&gt;RSET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ETNUMB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o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iz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_reco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39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cord Support Methods - Summary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17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4000" indent="-3240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, Initialization,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696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696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itial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696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it_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696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cord Support Methods - Summary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50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or Channel/ Databas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vt_db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array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_array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enum_s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_enum_s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enum_st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graphic_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control_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alarm_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cord Support Method: Syntax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ET – Record Support Entry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RSETNUMBER just a structure of function poi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JAVA interface or pure virtual C++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efined before standard C was available for E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use C function prot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ry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this will change in EPICS version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ethods: Report, Initialization, Process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155160" cy="56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ort(void *prec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 calls this. Normally not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ze(voi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once before first call to init_record .Not normall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_record(void *precord,int pa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tw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ss 0 - Can do anything except access other records. For example storage for arrays should be allocated during pass 0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ss 1 - Finish initialization and also call associated device support initializ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record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nit_record examp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623520" cy="56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assume val is double *val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 xxxdset 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ng number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VSUPFUN init_record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VSUPFUN read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xxxdse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ic long init_record(void *prec, int pa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xxarrayRecord *paf = (xxxarrayRecord *)prec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xxdest *pdset = (xxxdset *)paf-&gt;dse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pass==0) 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paf-&gt;nelm&lt;0) paf-&gt;nelm = 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f-&gt;val = (double *)calloc(paf-&gt;nelm,sizeof(double)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Must have dset defined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!pdset !! (pdset-&gt;number&lt; 5) || !pdest-&gt;read ) 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picsPrintf(“%s no or invalid dset\n”,paf-&gt;name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pdset-&gt;init_record)(paf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rocess 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231480" cy="538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Access:dbProcess calls 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was made to process th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not activ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T 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is enabled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V !=DI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device support m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record activ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T 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for record specific al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 databas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processing of forwar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ACT FA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rocess overview continue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155160" cy="59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7600" indent="-327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synchronous devi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76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itiate I/O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76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termine a method for calling process when operation complet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76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turn leaving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CT TR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760" indent="-219240"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s follows: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bScanLock(precord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*(prset-&gt;process)(precord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bScanUnlock(precord)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760" indent="-2192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mpletes record process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980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980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for record specific al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980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 databas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980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processing of forwar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980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T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9800" indent="-2192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rocess examp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17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ic long process(void *prec, int pa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xxarrayRecord *paf = (xxxarrayRecord *)prec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xxdest *pdset = (xxxdset *)paf-&gt;dse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signed char pact = paf-&gt;pac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signed short monitor_mask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Must have dset defined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!pdset !! (pdset-&gt;number&lt; 5) || !pdest-&gt;read ) 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set pact true so process will not be called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f-&gt;pact = TRU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pdset-&gt;read)(paf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return if beginning of asyn processing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!pact &amp;&amp; paf-&gt;pact) return(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f-&gt;pact = TRU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arm(paf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sample monitor code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nitor_mask = recGblResetAlarms(paf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nitor_mask |= (DBE_LOG|DBE_VALU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post_events(paf,paf-&gt;val,monitor_mask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GblFwdLink(paf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f-&gt;pact = FAL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6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larm and monitor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383760" cy="57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GblSetSevr(void *prec, &lt;alarm_status&gt;,&lt;alarm_severity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and severity values defin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arm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prevent alarm storms on numer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 fluctuating around alarm lim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 Application Developer’s guide for algorith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mus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GblResetAla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ter all alarms have been raised and before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GblFwdLi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so, if possible, before raising moni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_post_event(void *prec,void *pfield, monitor_ma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all fields that change as a result of recor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value change hysteresis when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iRec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n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asons Against a New Record Typ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9142560" cy="35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one STAT, SEVR, 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ower Supply Record, i.e. multiple inputs, outputs. What do stat and sevr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template of standard record types a better cho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evice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record types have extensive associated 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ocumentation. You should also provide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tricky to implement proper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tandard tools may also need extensions. Example capF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outines with a DBADDR argumen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926560" cy="538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by database/channe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GetField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ind out which fi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ieldInd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Index = dbGetFieldIndex(pdb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ieldIndex == aiRecordVA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ADD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def struct dbAddr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bCommon *precor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*pfiel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*pfldDe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*asPv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ng no_element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rt field_typ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rt field_siz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rt specia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rt dbr_field_typ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DBADDR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cord Support Routines - Cont.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926560" cy="568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ecial(DBADDR *pdbaddr,int af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d in db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efore and after field is mod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GetFieldIndex(pdbad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dbaddr-&gt;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pecial type as defined in .dbd file. USE SPC_MO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include fil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pecial.h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t_dbaddr(DBADDR *pdbadd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database library when DB or CA connects to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ial(SPC_DBADD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field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AD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no_ele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eld_typ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eld_siz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peci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br_typ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cord Support Routines - Cont.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307440" cy="545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vt_dbad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ts no_elements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array_info(DBADDR *pdbadd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 *no_elements, long *off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lled when database access gets an arra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e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no_ele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 set offset if field is circular buff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_array_info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ADDR *pdbaddr,long nNew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after database access has written ar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cord Support Routines - Cont.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231480" cy="538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/Prec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_units(DBADDR *pdbaddr, char *punits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_UNITS_SIZ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_precision(DBADDR *pdbadd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ng *precision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with only 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erated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_enum_str(DBADDR *pdbaddr,char 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_enum_str(DBADDR *pdbaddr,char 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_enum_strs(DBADDR *pdbaddr,dbr_enumStrs *p)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has limit of 16 choices, 26 characters in each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/ Control/ Alarm 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_graphic_double(DBADDR *pdbaddr,struct dbr_grDouble 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_control_double(DBADDR *pdbaddr,struct dbr_ctrlDouble 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_alarm_double(DBADDR *pdbaddr,struct dbr_alDouble 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lobal Record Support Routin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307440" cy="553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start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Gb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ded for record/device support but also called by other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 Erro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recated -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logPrint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rm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GblSetSevr(void *precord, short newstat, short newsev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GblResetAlarms(void *precor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GblGetGraphicDouble, recGblGetControl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s for fields record support doesn’t know how to 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Access client often not 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, Control, Alarm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GblInitConstantLin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use on link fields with a constant value. Only works on numeric values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lobal Record Support Routines continue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17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blGetTimeStamp</a:t>
            </a: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support should call this each time record completes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blFwdLink</a:t>
            </a: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called with pact true and all other processing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atabase Access Routines for Record Suppor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307440" cy="553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in context of process use dbGetLink, dbPut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bGetPdbAddrFromLink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address of DBADD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bGetRset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address of Record Support Entry 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bIsLinkConnected</a:t>
            </a: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link connect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easons For a New Record Typ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 of standard record types will not satisfy n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really sure? Think har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must be shared across multiple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asynRecord – Can dynamically change hardware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implemented via device support and standard records. Complicated!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k implemented via new record type. Much easier to understa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record instances: Example mbbiDirect record typ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it is fun. NOT A GOOD REAS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Event Generator/ Event Receiver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S/SLS/Diamond/PLS – Special Record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S has different event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estion: Modify EG/ER or write device support for standard records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swer: Not clear!!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264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few EG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264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 one ER per 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2640" indent="-2260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hink SNS decided to use device support for standard record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mplementation: Create DBD.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6080" y="1036800"/>
            <a:ext cx="9231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 Database Definition (dbd) Fi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6 of 3.14.6 Application Developer’s Gu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ordtype(&lt;recordtype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lude “dbCommon.db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eld(&lt;fieldname&gt;,&lt;fieldtype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fieldattribut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eld(&lt;fieldname&gt;,&lt;fieldtype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fieldattribut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2040" y="351000"/>
            <a:ext cx="825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Examp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3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00cc99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ordtype(exampl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ude “dbCommon.db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(PREC,DBF_DOUBL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mpt(“Display Precis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mptGroup(GUI_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(VAL,DBF_DOU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continue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231480" cy="492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ordtype(&lt;recordtype&gt;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be alphanumeric starting with 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lude “&lt;filename&gt;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st include dbCommon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(&lt;fieldname&gt;,&lt;type&gt;) {&lt;attributes&gt;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name should be alphanumeric starting with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is normally limited to four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.14 allows arbitrary length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y cause problems with some Channel Access cli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bd file this should be upper case. It is converted to lower case when the &lt;recordtype&gt;.h file is generated. Bad decisio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– Field Attribut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231480" cy="46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fieldattributes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l : access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L1 - Fields seldom modified - defaul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L0 - Fields meant to be modifi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: initi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pt : string for Databa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ptgroup : Should DCT allow field to be configu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: Special handling on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veral valu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OpenSymbol"/>
              <a:buChar char="✤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C_MOD, SPC_DBADDR, SPC SPC_NOMO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3480" y="35100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DBD – Field Attributes continue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9142560" cy="24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fieldattributes&gt;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 : process passive record on 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: interest level used by dbpr (Database Print Re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: DECIMAL (default) or HEX (Only used by dbDumpRe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: For DBF_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: For DBF_NO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spcBef>
                <a:spcPts val="238"/>
              </a:spcBef>
              <a:spcAft>
                <a:spcPts val="238"/>
              </a:spcAft>
              <a:buClr>
                <a:srgbClr val="c58900"/>
              </a:buClr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 : For DBF_MENU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y Kraimer</cp:lastModifiedBy>
  <dcterms:modified xsi:type="dcterms:W3CDTF">2004-11-17T13:19:26Z</dcterms:modified>
  <cp:revision>6</cp:revision>
  <dc:subject/>
  <dc:title>Finding, Deploying and Managing EPICS I/O Support</dc:title>
</cp:coreProperties>
</file>