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6.jpeg" ContentType="image/jpeg"/>
  <Override PartName="/ppt/media/image23.png" ContentType="image/png"/>
  <Override PartName="/ppt/media/image30.gif" ContentType="image/gif"/>
  <Override PartName="/ppt/media/image22.wmf" ContentType="image/x-wmf"/>
  <Override PartName="/ppt/media/image19.wmf" ContentType="image/x-wmf"/>
  <Override PartName="/ppt/media/image18.jpeg" ContentType="image/jpeg"/>
  <Override PartName="/ppt/media/image29.gif" ContentType="image/gif"/>
  <Override PartName="/ppt/media/image17.wmf" ContentType="image/x-wmf"/>
  <Override PartName="/ppt/media/image16.jpeg" ContentType="image/jpeg"/>
  <Override PartName="/ppt/media/image15.wmf" ContentType="image/x-wmf"/>
  <Override PartName="/ppt/media/image41.jpeg" ContentType="image/jpeg"/>
  <Override PartName="/ppt/media/image14.wmf" ContentType="image/x-wmf"/>
  <Override PartName="/ppt/media/image24.png" ContentType="image/png"/>
  <Override PartName="/ppt/media/image21.gif" ContentType="image/gif"/>
  <Override PartName="/ppt/media/image1.png" ContentType="image/png"/>
  <Override PartName="/ppt/media/image2.jpeg" ContentType="image/jpeg"/>
  <Override PartName="/ppt/media/image3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50.png" ContentType="image/png"/>
  <Override PartName="/ppt/media/image32.png" ContentType="image/png"/>
  <Override PartName="/ppt/media/image38.jpeg" ContentType="image/jpeg"/>
  <Override PartName="/ppt/media/image39.jpeg" ContentType="image/jpeg"/>
  <Override PartName="/ppt/media/image43.jpeg" ContentType="image/jpeg"/>
  <Override PartName="/ppt/media/image44.wmf" ContentType="image/x-wmf"/>
  <Override PartName="/ppt/media/image35.jpeg" ContentType="image/jpeg"/>
  <Override PartName="/ppt/media/image45.wmf" ContentType="image/x-wmf"/>
  <Override PartName="/ppt/media/image46.jpeg" ContentType="image/jpeg"/>
  <Override PartName="/ppt/media/image48.jpeg" ContentType="image/jpeg"/>
  <Override PartName="/ppt/media/image49.png" ContentType="image/png"/>
  <Override PartName="/ppt/media/image42.jpeg" ContentType="image/jpeg"/>
  <Override PartName="/ppt/media/image5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jpeg" ContentType="image/jpeg"/>
  <Override PartName="/ppt/media/image10.wmf" ContentType="image/x-wmf"/>
  <Override PartName="/ppt/media/image47.wmf" ContentType="image/x-wmf"/>
  <Override PartName="/ppt/media/image51.png" ContentType="image/png"/>
  <Override PartName="/ppt/media/image12.wmf" ContentType="image/x-wmf"/>
  <Override PartName="/ppt/media/image34.gif" ContentType="image/gif"/>
  <Override PartName="/ppt/media/image27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8.wmf" ContentType="image/x-wmf"/>
  <Override PartName="/ppt/media/image13.png" ContentType="image/png"/>
  <Override PartName="/ppt/media/image28.wmf" ContentType="image/x-wmf"/>
  <Override PartName="/ppt/media/image37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3F80B-8A99-4554-AB00-2F13995943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4040" y="70128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E1F7A-8C65-484E-AC7C-534D911C55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A4D9C3-ED96-4D30-BCB9-470D5C0C45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7B878-AEE5-47BF-AA0E-D4CF299EE3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1C48E-38AC-4A1A-A2EC-AE38D875E3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2FC3D-DF2A-4DEC-8045-106CA68CB0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A4AE1-DA00-4928-949F-084882E283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95B70-0403-4526-9907-930793925D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DC967-56FC-471E-8CFE-81AF19C9D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8C8AB-A570-47A7-A597-A79542B74B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15C69-F81A-46A4-B9DB-0F5506F9B0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1210B-4526-41EC-A3A8-46C8145672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70EEF-84E2-4A4D-A8A0-496ED98A4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9825E-FEF8-43DE-BC14-B030C6D4D7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4559E-B90C-427F-AEC8-E41191B458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70C375-7870-47B1-A218-C25A35DC11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0EEEE-A76E-49C4-A4FC-569370D352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ED574-C251-4B41-9525-B91757049F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D9DDA-2D29-4F7C-8DB4-880D466C39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3F82B-C733-4888-8819-016CD127C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464FF-01FA-4993-9F80-3D19A2749C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84FB8-A5E3-46D2-A9F1-407B674BC8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0E285-F67B-4A8C-8783-0D9BE20746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B5961-B170-42D5-83AB-42C69A01E6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46640-714F-4EF3-B87C-8276C3039C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A300D-97EE-440B-82BA-5B3200B810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8424DB-C024-4E49-9DF4-F52F0D43AD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54516-AEE9-487B-8817-CE6F00BC5B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DF7AD-F7A6-457C-BDCD-D5DCB18603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481F9-BEA3-482A-8CDE-0EF37A069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E4C5C-2202-4994-BBDF-D898AFFA86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0A5F8-4DC4-4558-B06D-5564B16F59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E31FD-365A-4321-B9B4-C88D2CCC99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1F39C-B748-42C0-9311-FE08238E6D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7389F-C43E-4B4A-B284-3E7A04ECDB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8E70C-EFDE-4D2A-8B59-EB9CC549A1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3"/>
          <p:cNvSpPr/>
          <p:nvPr/>
        </p:nvSpPr>
        <p:spPr>
          <a:xfrm>
            <a:off x="3981600" y="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55533-01DB-4982-A1C0-6D18F23D02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2CB06-2308-4DAE-A958-B28CC6EF25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9960" y="442440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7A6B-9FE9-448B-9665-199B18994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EECF-B6B8-4404-8F44-54D95DE2B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53E3-FFE8-4258-95D2-C9E8556A4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788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3772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9840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788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3772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C459-BC6D-4478-9144-3ABCE1636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B022-F284-4114-A694-4BE2B4708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788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3772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840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788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3772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06A9-49A4-4E7A-947C-D70A9FB64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72AC-DB6C-4D66-84A2-987293D94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3437-B384-4B94-90E7-48C55D06D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52A9-5A86-4B5D-B1B5-E4ECB0582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29A2-0B02-47C2-8425-4982C59E8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803A-3D92-4C08-A9A1-A8713875B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B030-D1DC-4F6E-9B75-22A7AC13E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7"/>
          <p:cNvSpPr/>
          <p:nvPr/>
        </p:nvSpPr>
        <p:spPr>
          <a:xfrm>
            <a:off x="1847880" y="6303960"/>
            <a:ext cx="5416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2" descr=""/>
          <p:cNvPicPr/>
          <p:nvPr/>
        </p:nvPicPr>
        <p:blipFill>
          <a:blip r:embed="rId2"/>
          <a:stretch/>
        </p:blipFill>
        <p:spPr>
          <a:xfrm>
            <a:off x="214200" y="6303960"/>
            <a:ext cx="400320" cy="365040"/>
          </a:xfrm>
          <a:prstGeom prst="rect">
            <a:avLst/>
          </a:prstGeom>
          <a:ln w="0">
            <a:noFill/>
          </a:ln>
        </p:spPr>
      </p:pic>
      <p:sp>
        <p:nvSpPr>
          <p:cNvPr id="2" name="Line 22"/>
          <p:cNvSpPr/>
          <p:nvPr/>
        </p:nvSpPr>
        <p:spPr>
          <a:xfrm>
            <a:off x="227160" y="6262560"/>
            <a:ext cx="8662680" cy="0"/>
          </a:xfrm>
          <a:prstGeom prst="line">
            <a:avLst/>
          </a:prstGeom>
          <a:ln w="1260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3610-689D-407D-A0BE-6B5E7B17E04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53"/>
          <p:cNvSpPr/>
          <p:nvPr/>
        </p:nvSpPr>
        <p:spPr>
          <a:xfrm>
            <a:off x="592200" y="6293520"/>
            <a:ext cx="133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  <a:ea typeface="宋体"/>
              </a:rPr>
              <a:t>Pioneering 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  <a:ea typeface="宋体"/>
              </a:rPr>
              <a:t>Science and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  <a:ea typeface="宋体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9"/>
          <p:cNvSpPr/>
          <p:nvPr/>
        </p:nvSpPr>
        <p:spPr>
          <a:xfrm>
            <a:off x="227160" y="920880"/>
            <a:ext cx="864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63"/>
          <p:cNvSpPr/>
          <p:nvPr/>
        </p:nvSpPr>
        <p:spPr>
          <a:xfrm>
            <a:off x="7167600" y="6282360"/>
            <a:ext cx="11350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  <a:ea typeface="宋体"/>
              </a:rPr>
              <a:t>Office of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  <a:ea typeface="宋体"/>
              </a:rPr>
              <a:t> </a:t>
            </a:r>
            <a:r>
              <a:rPr b="1" lang="en-US" sz="800" spc="-1" strike="noStrike">
                <a:solidFill>
                  <a:srgbClr val="c28500"/>
                </a:solidFill>
                <a:latin typeface="Arial"/>
                <a:ea typeface="宋体"/>
              </a:rPr>
              <a:t>U.S. Depart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  <a:ea typeface="宋体"/>
              </a:rPr>
              <a:t>of Ener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65"/>
          <p:cNvGrpSpPr/>
          <p:nvPr/>
        </p:nvGrpSpPr>
        <p:grpSpPr>
          <a:xfrm>
            <a:off x="8305920" y="6297480"/>
            <a:ext cx="608040" cy="365040"/>
            <a:chOff x="8305920" y="6297480"/>
            <a:chExt cx="608040" cy="365040"/>
          </a:xfrm>
        </p:grpSpPr>
        <p:pic>
          <p:nvPicPr>
            <p:cNvPr id="9" name="Picture 62" descr=""/>
            <p:cNvPicPr/>
            <p:nvPr/>
          </p:nvPicPr>
          <p:blipFill>
            <a:blip r:embed="rId3"/>
            <a:stretch/>
          </p:blipFill>
          <p:spPr>
            <a:xfrm>
              <a:off x="8305920" y="6297480"/>
              <a:ext cx="608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Oval 64"/>
            <p:cNvSpPr/>
            <p:nvPr/>
          </p:nvSpPr>
          <p:spPr>
            <a:xfrm>
              <a:off x="8566200" y="6443640"/>
              <a:ext cx="76320" cy="7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68" descr="logo101"/>
          <p:cNvPicPr/>
          <p:nvPr/>
        </p:nvPicPr>
        <p:blipFill>
          <a:blip r:embed="rId4"/>
          <a:stretch/>
        </p:blipFill>
        <p:spPr>
          <a:xfrm>
            <a:off x="8290080" y="39600"/>
            <a:ext cx="814320" cy="814320"/>
          </a:xfrm>
          <a:prstGeom prst="rect">
            <a:avLst/>
          </a:prstGeom>
          <a:ln w="0">
            <a:noFill/>
          </a:ln>
        </p:spPr>
      </p:pic>
      <p:sp>
        <p:nvSpPr>
          <p:cNvPr id="13" name="Rectangle 69"/>
          <p:cNvSpPr/>
          <p:nvPr/>
        </p:nvSpPr>
        <p:spPr>
          <a:xfrm>
            <a:off x="1879560" y="6334200"/>
            <a:ext cx="5416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Getting Started with EPICS: Introductory Session 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9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8"/>
          <p:cNvSpPr/>
          <p:nvPr/>
        </p:nvSpPr>
        <p:spPr>
          <a:xfrm>
            <a:off x="3319560" y="5894280"/>
            <a:ext cx="52578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 U.S. Department of Energy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ffice of Science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erated by The University of Chic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5" descr=""/>
          <p:cNvPicPr/>
          <p:nvPr/>
        </p:nvPicPr>
        <p:blipFill>
          <a:blip r:embed="rId3"/>
          <a:stretch/>
        </p:blipFill>
        <p:spPr>
          <a:xfrm>
            <a:off x="8213760" y="5977080"/>
            <a:ext cx="549360" cy="55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"/>
          <p:cNvPicPr/>
          <p:nvPr/>
        </p:nvPicPr>
        <p:blipFill>
          <a:blip r:embed="rId4"/>
          <a:stretch/>
        </p:blipFill>
        <p:spPr>
          <a:xfrm>
            <a:off x="7583400" y="5977080"/>
            <a:ext cx="443160" cy="550800"/>
          </a:xfrm>
          <a:prstGeom prst="rect">
            <a:avLst/>
          </a:prstGeom>
          <a:ln w="0">
            <a:noFill/>
          </a:ln>
        </p:spPr>
      </p:pic>
      <p:sp>
        <p:nvSpPr>
          <p:cNvPr id="54" name="Line 57"/>
          <p:cNvSpPr/>
          <p:nvPr/>
        </p:nvSpPr>
        <p:spPr>
          <a:xfrm>
            <a:off x="2557440" y="5821200"/>
            <a:ext cx="6200640" cy="0"/>
          </a:xfrm>
          <a:prstGeom prst="line">
            <a:avLst/>
          </a:prstGeom>
          <a:ln w="1908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8"/>
          <p:cNvSpPr/>
          <p:nvPr/>
        </p:nvSpPr>
        <p:spPr>
          <a:xfrm>
            <a:off x="2475000" y="5506200"/>
            <a:ext cx="49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gonne N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2553480" y="6405480"/>
            <a:ext cx="712440" cy="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1a1818"/>
                </a:solidFill>
                <a:latin typeface="Arial"/>
                <a:ea typeface="宋体"/>
              </a:rPr>
              <a:t>Office of Scie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1"/>
          <p:cNvSpPr/>
          <p:nvPr/>
        </p:nvSpPr>
        <p:spPr>
          <a:xfrm>
            <a:off x="2592360" y="6486480"/>
            <a:ext cx="633240" cy="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1a1818"/>
                </a:solidFill>
                <a:latin typeface="Arial"/>
                <a:ea typeface="宋体"/>
              </a:rPr>
              <a:t>U.S. Department of Ener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2"/>
          <p:cNvGrpSpPr/>
          <p:nvPr/>
        </p:nvGrpSpPr>
        <p:grpSpPr>
          <a:xfrm>
            <a:off x="2558880" y="5979960"/>
            <a:ext cx="698760" cy="374760"/>
            <a:chOff x="2558880" y="5979960"/>
            <a:chExt cx="698760" cy="374760"/>
          </a:xfrm>
        </p:grpSpPr>
        <p:pic>
          <p:nvPicPr>
            <p:cNvPr id="59" name="Picture 73" descr=""/>
            <p:cNvPicPr/>
            <p:nvPr/>
          </p:nvPicPr>
          <p:blipFill>
            <a:blip r:embed="rId5"/>
            <a:stretch/>
          </p:blipFill>
          <p:spPr>
            <a:xfrm>
              <a:off x="2558880" y="5979960"/>
              <a:ext cx="69876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74"/>
            <p:cNvSpPr/>
            <p:nvPr/>
          </p:nvSpPr>
          <p:spPr>
            <a:xfrm>
              <a:off x="2863800" y="6134040"/>
              <a:ext cx="8244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80" descr="logo101"/>
          <p:cNvPicPr/>
          <p:nvPr/>
        </p:nvPicPr>
        <p:blipFill>
          <a:blip r:embed="rId6"/>
          <a:stretch/>
        </p:blipFill>
        <p:spPr>
          <a:xfrm>
            <a:off x="8290080" y="39600"/>
            <a:ext cx="814320" cy="814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ps.anl.gov/epics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57000" y="1631880"/>
            <a:ext cx="6451560" cy="102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Getting Started with EPICS Lecture Series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457360" y="2952720"/>
            <a:ext cx="6461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tory Session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565360" y="4127400"/>
            <a:ext cx="64612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John Mac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/16/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29B8-1770-4202-8B79-346B0D8E8C5E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at are EPICS records?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record is an object with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unique name e.g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28:water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rollable properties (fields) e.g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behavior - defined by its recor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al associated hardware I/O (device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ks to other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field can be accessed individually by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record name and field name combined give a the name of a process variable (P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Process Variable name is what Channel Access needs to access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D91E-043D-4625-BF7D-E1E692976A98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 Process Variable nam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PV name is comprised of two pa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ecord name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the name of a field belonging to tha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example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332720" y="4392720"/>
            <a:ext cx="203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 record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698120" y="3444840"/>
            <a:ext cx="32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1:water: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6045120" y="4419720"/>
            <a:ext cx="185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 field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466960" y="3460680"/>
            <a:ext cx="14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2143080" y="3787920"/>
            <a:ext cx="2435400" cy="2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2435400" y="3797280"/>
            <a:ext cx="387000" cy="64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V="1">
            <a:off x="5832360" y="3797280"/>
            <a:ext cx="59868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 flipH="1" flipV="1">
            <a:off x="6162480" y="3817440"/>
            <a:ext cx="453960" cy="63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4114800" y="3459240"/>
            <a:ext cx="9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2873880" y="4398840"/>
            <a:ext cx="225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 dot to join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4175280" y="3797280"/>
            <a:ext cx="387360" cy="64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6096960" y="3513240"/>
            <a:ext cx="28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 Process variab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1916280" y="3371760"/>
            <a:ext cx="3350880" cy="571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 flipH="1" flipV="1">
            <a:off x="5267160" y="3665520"/>
            <a:ext cx="1229040" cy="6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708120" y="4854600"/>
            <a:ext cx="8218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 that if no field name is given, Channel Access will default to using the .VAL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.e. to CA, “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1:water:tempera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” = “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1:water:temperature.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1408 -0.00092 E">
                                      <p:cBhvr>
                                        <p:cTn id="343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1408 -0.00092 E">
                                      <p:cBhvr>
                                        <p:cTn id="345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1408 -0.00092 E">
                                      <p:cBhvr>
                                        <p:cTn id="347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1408 -0.00092 E">
                                      <p:cBhvr>
                                        <p:cTn id="34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3910-2D1E-4A9A-859D-5174BE828D0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at do records do?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98400" y="1269720"/>
            <a:ext cx="8191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cords are active, they do th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et data from other records or from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form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eck values are in range and raise al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ut data to other records or to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tivate or disable other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ait for hardware signals (interru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 a record does depends upon its type and the values in its fie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wide range of records have already been cre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w record types can be added to a new application a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record does nothing until it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c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jvpxoha4[1]"/>
          <p:cNvPicPr/>
          <p:nvPr/>
        </p:nvPicPr>
        <p:blipFill>
          <a:blip r:embed="rId1"/>
          <a:stretch/>
        </p:blipFill>
        <p:spPr>
          <a:xfrm>
            <a:off x="6961320" y="1778040"/>
            <a:ext cx="701640" cy="931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ou2d4eq3[1]"/>
          <p:cNvPicPr/>
          <p:nvPr/>
        </p:nvPicPr>
        <p:blipFill>
          <a:blip r:embed="rId2"/>
          <a:stretch/>
        </p:blipFill>
        <p:spPr>
          <a:xfrm>
            <a:off x="7988400" y="2158920"/>
            <a:ext cx="885600" cy="889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j0300520"/>
          <p:cNvPicPr/>
          <p:nvPr/>
        </p:nvPicPr>
        <p:blipFill>
          <a:blip r:embed="rId3"/>
          <a:stretch/>
        </p:blipFill>
        <p:spPr>
          <a:xfrm>
            <a:off x="7991640" y="1285920"/>
            <a:ext cx="884160" cy="760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j0300520"/>
          <p:cNvPicPr/>
          <p:nvPr/>
        </p:nvPicPr>
        <p:blipFill>
          <a:blip r:embed="rId4"/>
          <a:stretch/>
        </p:blipFill>
        <p:spPr>
          <a:xfrm>
            <a:off x="6894360" y="2828880"/>
            <a:ext cx="8287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CE21-F840-4B67-83A9-22D5FECFA4D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Record typ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1120" y="1090080"/>
            <a:ext cx="8191440" cy="48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assified into four general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put: e.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alog In (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nary In (B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ring In (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gorithm/control: e.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lculation (CAL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broutine 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utput: e.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alog Out (A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nary Out (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stom: e.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am Position Moni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ulti Channel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wuofsqyr[1]"/>
          <p:cNvPicPr/>
          <p:nvPr/>
        </p:nvPicPr>
        <p:blipFill>
          <a:blip r:embed="rId1"/>
          <a:stretch/>
        </p:blipFill>
        <p:spPr>
          <a:xfrm flipH="1">
            <a:off x="5638680" y="2400480"/>
            <a:ext cx="1673280" cy="1672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2"/>
          <a:stretch/>
        </p:blipFill>
        <p:spPr>
          <a:xfrm>
            <a:off x="5840280" y="4562640"/>
            <a:ext cx="24148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4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A30C-539E-41E6-8FED-A58ACD2B7C01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ome record typ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4019760" cy="47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alo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alog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nary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nary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lculation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fan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v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an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st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ulti bit binary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70080" y="1460520"/>
            <a:ext cx="4019400" cy="40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ulti bit binary outpu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ulse cou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ulse de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rin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ring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b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brout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ave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843E-49B6-4C5B-85C2-836C38271AA8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Graphical view of a recor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2157480" y="1082520"/>
            <a:ext cx="59371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7A1A-2309-41B8-83FA-A41867BEF67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OC view of a recor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957920" y="1563840"/>
            <a:ext cx="3779640" cy="39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1280" indent="-341280">
              <a:lnSpc>
                <a:spcPct val="94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DRVH,"1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DRVL,"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HOPR,"8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LOPR,"1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HIHI,"0.0e+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LOLO,"0.0e+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HIGH,"0.0e+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LOW,"0.0e+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HHSV,"NO_ALARM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LLSV,"NO_ALARM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HSV,"NO_ALARM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LSV,"NO_ALARM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HYST,"0.0e+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ADEL,"0.0e+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MDEL,"0.0e+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SIOL,"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SIML,"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SIMS,"NO_ALARM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IVOA,"Continue normally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IVOV,"0.0e+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414360" y="1563840"/>
            <a:ext cx="428004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1280" indent="-341280">
              <a:lnSpc>
                <a:spcPct val="94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record(ao,"DemandTemp"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DESC,"Temperature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ASG,"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SCAN,"Passive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PINI,"NO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PHAS,"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EVNT,"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DTYP,"VMIC 41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DISV,"1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SDIS,"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DISS,"NO_ALARM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PRIO,"LOW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FLNK,"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OUT,"#C0 S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OROC,"0.0e+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DOL,"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OMSL,"supervisory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OIF,"Full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PREC,"1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LINR,"NO CONVERSION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EGUF,"10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EGUL,"0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Courier New"/>
              </a:rPr>
              <a:t>field(EGU,"Celcius"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4844880" y="1568520"/>
            <a:ext cx="1800" cy="371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E782-86D7-49FE-A741-85F62F0C4F81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PICS Databases – What are they?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263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collection of one or more EPIC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cor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f various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cords can be interconnected and are used as building blocks to create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data file that’s loaded into IOC memory at boot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nel access talks to the IOC memory copy of the data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4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7BE9-3AD2-4079-BE86-C0E931DB9428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3"/>
          <p:cNvSpPr/>
          <p:nvPr/>
        </p:nvSpPr>
        <p:spPr>
          <a:xfrm flipH="1">
            <a:off x="2932920" y="1550880"/>
            <a:ext cx="1303560" cy="567000"/>
          </a:xfrm>
          <a:prstGeom prst="wedgeRectCallout">
            <a:avLst>
              <a:gd name="adj1" fmla="val -149513"/>
              <a:gd name="adj2" fmla="val 3543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3402000" y="2438280"/>
            <a:ext cx="5141880" cy="372276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Our First Databas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1" descr="_1xul3ak[1]"/>
          <p:cNvPicPr/>
          <p:nvPr/>
        </p:nvPicPr>
        <p:blipFill>
          <a:blip r:embed="rId1"/>
          <a:stretch/>
        </p:blipFill>
        <p:spPr>
          <a:xfrm>
            <a:off x="571680" y="3855960"/>
            <a:ext cx="1199880" cy="9334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5168880" y="3070080"/>
            <a:ext cx="3183120" cy="28432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5578560" y="3521160"/>
            <a:ext cx="13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og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5584680" y="3828960"/>
            <a:ext cx="1303560" cy="69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5576760" y="3846600"/>
            <a:ext cx="13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cTe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"/>
          <p:cNvSpPr/>
          <p:nvPr/>
        </p:nvSpPr>
        <p:spPr>
          <a:xfrm>
            <a:off x="5587920" y="4535640"/>
            <a:ext cx="1292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EGU 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deg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0"/>
          <p:cNvSpPr/>
          <p:nvPr/>
        </p:nvSpPr>
        <p:spPr>
          <a:xfrm>
            <a:off x="6378480" y="4241880"/>
            <a:ext cx="509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1"/>
          <p:cNvSpPr/>
          <p:nvPr/>
        </p:nvSpPr>
        <p:spPr>
          <a:xfrm>
            <a:off x="5581800" y="4240080"/>
            <a:ext cx="482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4" descr=""/>
          <p:cNvPicPr/>
          <p:nvPr/>
        </p:nvPicPr>
        <p:blipFill>
          <a:blip r:embed="rId2"/>
          <a:stretch/>
        </p:blipFill>
        <p:spPr>
          <a:xfrm>
            <a:off x="3809880" y="3567240"/>
            <a:ext cx="349200" cy="1574640"/>
          </a:xfrm>
          <a:prstGeom prst="rect">
            <a:avLst/>
          </a:prstGeom>
          <a:ln w="0">
            <a:noFill/>
          </a:ln>
        </p:spPr>
      </p:pic>
      <p:sp>
        <p:nvSpPr>
          <p:cNvPr id="308" name="Line 28"/>
          <p:cNvSpPr/>
          <p:nvPr/>
        </p:nvSpPr>
        <p:spPr>
          <a:xfrm>
            <a:off x="2840040" y="4352760"/>
            <a:ext cx="95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9"/>
          <p:cNvSpPr/>
          <p:nvPr/>
        </p:nvSpPr>
        <p:spPr>
          <a:xfrm>
            <a:off x="4165560" y="4356000"/>
            <a:ext cx="1432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0" descr="thermometer"/>
          <p:cNvPicPr/>
          <p:nvPr/>
        </p:nvPicPr>
        <p:blipFill>
          <a:blip r:embed="rId3"/>
          <a:stretch/>
        </p:blipFill>
        <p:spPr>
          <a:xfrm>
            <a:off x="2527200" y="3554280"/>
            <a:ext cx="333360" cy="15382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1"/>
          <p:cNvSpPr/>
          <p:nvPr/>
        </p:nvSpPr>
        <p:spPr>
          <a:xfrm>
            <a:off x="2058840" y="2819520"/>
            <a:ext cx="12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mperature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3"/>
          <p:cNvSpPr/>
          <p:nvPr/>
        </p:nvSpPr>
        <p:spPr>
          <a:xfrm>
            <a:off x="3444480" y="24242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4"/>
          <p:cNvSpPr/>
          <p:nvPr/>
        </p:nvSpPr>
        <p:spPr>
          <a:xfrm>
            <a:off x="5163120" y="30592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5"/>
          <p:cNvSpPr/>
          <p:nvPr/>
        </p:nvSpPr>
        <p:spPr>
          <a:xfrm>
            <a:off x="3419640" y="2778120"/>
            <a:ext cx="111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og to 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2"/>
          <p:cNvSpPr/>
          <p:nvPr/>
        </p:nvSpPr>
        <p:spPr>
          <a:xfrm>
            <a:off x="1815120" y="5278320"/>
            <a:ext cx="16624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 – 1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 – 10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3"/>
          <p:cNvSpPr/>
          <p:nvPr/>
        </p:nvSpPr>
        <p:spPr>
          <a:xfrm>
            <a:off x="3079800" y="5281560"/>
            <a:ext cx="179208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 bit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 – 10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 – 255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4"/>
          <p:cNvSpPr/>
          <p:nvPr/>
        </p:nvSpPr>
        <p:spPr>
          <a:xfrm>
            <a:off x="5587920" y="4827600"/>
            <a:ext cx="1292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EGUL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5"/>
          <p:cNvSpPr/>
          <p:nvPr/>
        </p:nvSpPr>
        <p:spPr>
          <a:xfrm>
            <a:off x="5592600" y="5121360"/>
            <a:ext cx="1292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EGUF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6"/>
          <p:cNvSpPr/>
          <p:nvPr/>
        </p:nvSpPr>
        <p:spPr>
          <a:xfrm>
            <a:off x="5587920" y="5410080"/>
            <a:ext cx="1292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HIGH: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4"/>
          <p:cNvSpPr/>
          <p:nvPr/>
        </p:nvSpPr>
        <p:spPr>
          <a:xfrm>
            <a:off x="782640" y="28144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5"/>
          <p:cNvSpPr/>
          <p:nvPr/>
        </p:nvSpPr>
        <p:spPr>
          <a:xfrm>
            <a:off x="1778040" y="4344840"/>
            <a:ext cx="75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6"/>
          <p:cNvSpPr/>
          <p:nvPr/>
        </p:nvSpPr>
        <p:spPr>
          <a:xfrm>
            <a:off x="1443240" y="4035600"/>
            <a:ext cx="14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5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7"/>
          <p:cNvSpPr/>
          <p:nvPr/>
        </p:nvSpPr>
        <p:spPr>
          <a:xfrm>
            <a:off x="2445120" y="40482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5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8"/>
          <p:cNvSpPr/>
          <p:nvPr/>
        </p:nvSpPr>
        <p:spPr>
          <a:xfrm>
            <a:off x="3861000" y="4054320"/>
            <a:ext cx="14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16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4"/>
          <p:cNvSpPr/>
          <p:nvPr/>
        </p:nvSpPr>
        <p:spPr>
          <a:xfrm>
            <a:off x="4997520" y="2448000"/>
            <a:ext cx="273384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annel Access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6"/>
          <p:cNvSpPr/>
          <p:nvPr/>
        </p:nvSpPr>
        <p:spPr>
          <a:xfrm>
            <a:off x="-124560" y="5267160"/>
            <a:ext cx="2273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ormal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 - 5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7"/>
          <p:cNvSpPr/>
          <p:nvPr/>
        </p:nvSpPr>
        <p:spPr>
          <a:xfrm>
            <a:off x="6716880" y="2768760"/>
            <a:ext cx="0" cy="1046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8"/>
          <p:cNvSpPr/>
          <p:nvPr/>
        </p:nvSpPr>
        <p:spPr>
          <a:xfrm flipV="1">
            <a:off x="6826320" y="2754000"/>
            <a:ext cx="7920" cy="1082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0"/>
          <p:cNvSpPr/>
          <p:nvPr/>
        </p:nvSpPr>
        <p:spPr>
          <a:xfrm>
            <a:off x="3972960" y="1058760"/>
            <a:ext cx="2663640" cy="30708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hannel Access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91"/>
          <p:cNvSpPr/>
          <p:nvPr/>
        </p:nvSpPr>
        <p:spPr>
          <a:xfrm>
            <a:off x="5129280" y="1401840"/>
            <a:ext cx="658800" cy="1015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92"/>
          <p:cNvSpPr/>
          <p:nvPr/>
        </p:nvSpPr>
        <p:spPr>
          <a:xfrm flipH="1" flipV="1">
            <a:off x="5281560" y="1399680"/>
            <a:ext cx="658800" cy="103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4"/>
          <p:cNvSpPr/>
          <p:nvPr/>
        </p:nvSpPr>
        <p:spPr>
          <a:xfrm>
            <a:off x="2903400" y="1538280"/>
            <a:ext cx="14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ll me about Proc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95"/>
          <p:cNvSpPr/>
          <p:nvPr/>
        </p:nvSpPr>
        <p:spPr>
          <a:xfrm>
            <a:off x="6838920" y="1305000"/>
            <a:ext cx="2100240" cy="990360"/>
          </a:xfrm>
          <a:prstGeom prst="wedgeRectCallout">
            <a:avLst>
              <a:gd name="adj1" fmla="val -96634"/>
              <a:gd name="adj2" fmla="val 4311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6"/>
          <p:cNvSpPr/>
          <p:nvPr/>
        </p:nvSpPr>
        <p:spPr>
          <a:xfrm>
            <a:off x="6501600" y="1311120"/>
            <a:ext cx="2421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c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.VAL    = 45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.EGU    = deg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.STAT   = N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7"/>
          <p:cNvSpPr/>
          <p:nvPr/>
        </p:nvSpPr>
        <p:spPr>
          <a:xfrm>
            <a:off x="6994440" y="3929040"/>
            <a:ext cx="1184400" cy="316080"/>
          </a:xfrm>
          <a:prstGeom prst="wedgeRectCallout">
            <a:avLst>
              <a:gd name="adj1" fmla="val -64342"/>
              <a:gd name="adj2" fmla="val 82162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5.5 deg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8"/>
          <p:cNvSpPr/>
          <p:nvPr/>
        </p:nvSpPr>
        <p:spPr>
          <a:xfrm>
            <a:off x="1455840" y="4041720"/>
            <a:ext cx="14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1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9"/>
          <p:cNvSpPr/>
          <p:nvPr/>
        </p:nvSpPr>
        <p:spPr>
          <a:xfrm>
            <a:off x="2457720" y="404028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0"/>
          <p:cNvSpPr/>
          <p:nvPr/>
        </p:nvSpPr>
        <p:spPr>
          <a:xfrm>
            <a:off x="3853080" y="4054320"/>
            <a:ext cx="14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01"/>
          <p:cNvSpPr/>
          <p:nvPr/>
        </p:nvSpPr>
        <p:spPr>
          <a:xfrm>
            <a:off x="7023240" y="3941640"/>
            <a:ext cx="1184040" cy="316080"/>
          </a:xfrm>
          <a:prstGeom prst="wedgeRectCallout">
            <a:avLst>
              <a:gd name="adj1" fmla="val -70643"/>
              <a:gd name="adj2" fmla="val 9170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1.5 deg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"/>
          <p:cNvSpPr/>
          <p:nvPr/>
        </p:nvSpPr>
        <p:spPr>
          <a:xfrm>
            <a:off x="6498000" y="1308240"/>
            <a:ext cx="23299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c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.VAL    = 5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.EGU    = deg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.STAT   = 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7" descr="lxs030fn[1]"/>
          <p:cNvPicPr/>
          <p:nvPr/>
        </p:nvPicPr>
        <p:blipFill>
          <a:blip r:embed="rId4"/>
          <a:stretch/>
        </p:blipFill>
        <p:spPr>
          <a:xfrm>
            <a:off x="128520" y="3208320"/>
            <a:ext cx="12445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C0DB-E3D8-4964-A25D-3DFEDB391F3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Record Process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5292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cord processing can be periodic or event driv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riodic: Standard scan rates are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, 5, 2, 1, 0.5, 0.2 and 0.1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stom scan rates can be configured up to speeds allowed by operating system and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vent driven: Events inclu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rdware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quest from another record via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PIC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nnel Access 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auzn2pjh[1]"/>
          <p:cNvPicPr/>
          <p:nvPr/>
        </p:nvPicPr>
        <p:blipFill>
          <a:blip r:embed="rId1"/>
          <a:stretch/>
        </p:blipFill>
        <p:spPr>
          <a:xfrm>
            <a:off x="6638760" y="1511280"/>
            <a:ext cx="1374840" cy="2028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qtjpijj1[1]"/>
          <p:cNvPicPr/>
          <p:nvPr/>
        </p:nvPicPr>
        <p:blipFill>
          <a:blip r:embed="rId2"/>
          <a:stretch/>
        </p:blipFill>
        <p:spPr>
          <a:xfrm>
            <a:off x="6362640" y="3768840"/>
            <a:ext cx="22878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BA91-A652-4440-851E-0662DCCD0ACF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05960" y="1039320"/>
            <a:ext cx="4891320" cy="52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ay the foundation for understanding an EPICS control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roduce IO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nnel Access (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qu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oosing the correct tools for the j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n to use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sequencer, what is it good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y write your own CA client progr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w fast is EPIC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w to find more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bsite walk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irtual LINAC instal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dj_l_quy[1]"/>
          <p:cNvPicPr/>
          <p:nvPr/>
        </p:nvPicPr>
        <p:blipFill>
          <a:blip r:embed="rId1"/>
          <a:stretch/>
        </p:blipFill>
        <p:spPr>
          <a:xfrm>
            <a:off x="6362640" y="1057320"/>
            <a:ext cx="642960" cy="152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scn2021a"/>
          <p:cNvPicPr/>
          <p:nvPr/>
        </p:nvPicPr>
        <p:blipFill>
          <a:blip r:embed="rId2"/>
          <a:stretch/>
        </p:blipFill>
        <p:spPr>
          <a:xfrm>
            <a:off x="7202520" y="1751040"/>
            <a:ext cx="1176480" cy="98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k3gzs_yw[1]"/>
          <p:cNvPicPr/>
          <p:nvPr/>
        </p:nvPicPr>
        <p:blipFill>
          <a:blip r:embed="rId3"/>
          <a:stretch/>
        </p:blipFill>
        <p:spPr>
          <a:xfrm>
            <a:off x="5576760" y="2921040"/>
            <a:ext cx="1446480" cy="144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_s2qdtuk[1]"/>
          <p:cNvPicPr/>
          <p:nvPr/>
        </p:nvPicPr>
        <p:blipFill>
          <a:blip r:embed="rId4"/>
          <a:stretch/>
        </p:blipFill>
        <p:spPr>
          <a:xfrm>
            <a:off x="7095960" y="3865680"/>
            <a:ext cx="1386000" cy="1244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od1x03j3[1]"/>
          <p:cNvPicPr/>
          <p:nvPr/>
        </p:nvPicPr>
        <p:blipFill>
          <a:blip r:embed="rId5"/>
          <a:stretch/>
        </p:blipFill>
        <p:spPr>
          <a:xfrm>
            <a:off x="5450040" y="4743360"/>
            <a:ext cx="12524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6BB4-D222-43FF-A9B6-6E9F945E55B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7"/>
          <p:cNvSpPr/>
          <p:nvPr/>
        </p:nvSpPr>
        <p:spPr>
          <a:xfrm>
            <a:off x="1347840" y="2441520"/>
            <a:ext cx="617220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bl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the LINAC we have a water chiller that must be turned ON whenever the average temperature of two temperature sensors rises above a set point. The set point is nominally 10 degrees centig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8"/>
          <p:cNvSpPr/>
          <p:nvPr/>
        </p:nvSpPr>
        <p:spPr>
          <a:xfrm>
            <a:off x="728640" y="1176480"/>
            <a:ext cx="7323120" cy="469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7"/>
          <p:cNvSpPr/>
          <p:nvPr/>
        </p:nvSpPr>
        <p:spPr>
          <a:xfrm>
            <a:off x="1595520" y="1482840"/>
            <a:ext cx="5707080" cy="414000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atabase Process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5702400" y="2987640"/>
            <a:ext cx="1481040" cy="69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695920" y="266076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inary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5702400" y="299556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1:water:chillerC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3676680" y="2844720"/>
            <a:ext cx="1557360" cy="84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662280" y="2541600"/>
            <a:ext cx="15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3675240" y="283536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1:water:tempCh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668760" y="3979800"/>
            <a:ext cx="15526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AL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 (A+B)/2 ) &gt;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3666960" y="3695760"/>
            <a:ext cx="15591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3670200" y="4260960"/>
            <a:ext cx="1555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10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1808280" y="1674720"/>
            <a:ext cx="13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og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1814400" y="1982880"/>
            <a:ext cx="1303560" cy="69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830240" y="20001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1:water:tem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1805040" y="2681280"/>
            <a:ext cx="1312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U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deg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2608200" y="2395440"/>
            <a:ext cx="509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0"/>
          <p:cNvSpPr/>
          <p:nvPr/>
        </p:nvSpPr>
        <p:spPr>
          <a:xfrm>
            <a:off x="1811160" y="2394000"/>
            <a:ext cx="482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4" descr=""/>
          <p:cNvPicPr/>
          <p:nvPr/>
        </p:nvPicPr>
        <p:blipFill>
          <a:blip r:embed="rId1"/>
          <a:stretch/>
        </p:blipFill>
        <p:spPr>
          <a:xfrm>
            <a:off x="1031760" y="3973680"/>
            <a:ext cx="349200" cy="1574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8" descr=""/>
          <p:cNvPicPr/>
          <p:nvPr/>
        </p:nvPicPr>
        <p:blipFill>
          <a:blip r:embed="rId2"/>
          <a:stretch/>
        </p:blipFill>
        <p:spPr>
          <a:xfrm>
            <a:off x="7469280" y="2703600"/>
            <a:ext cx="349200" cy="1574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9" descr=""/>
          <p:cNvPicPr/>
          <p:nvPr/>
        </p:nvPicPr>
        <p:blipFill>
          <a:blip r:embed="rId3"/>
          <a:stretch/>
        </p:blipFill>
        <p:spPr>
          <a:xfrm>
            <a:off x="1049400" y="1720800"/>
            <a:ext cx="349200" cy="15750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44"/>
          <p:cNvSpPr/>
          <p:nvPr/>
        </p:nvSpPr>
        <p:spPr>
          <a:xfrm>
            <a:off x="1814400" y="4923000"/>
            <a:ext cx="1312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U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deg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5"/>
          <p:cNvSpPr/>
          <p:nvPr/>
        </p:nvSpPr>
        <p:spPr>
          <a:xfrm>
            <a:off x="2617920" y="4637160"/>
            <a:ext cx="509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6"/>
          <p:cNvSpPr/>
          <p:nvPr/>
        </p:nvSpPr>
        <p:spPr>
          <a:xfrm>
            <a:off x="1820880" y="4627440"/>
            <a:ext cx="482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9" descr="fridge"/>
          <p:cNvPicPr/>
          <p:nvPr/>
        </p:nvPicPr>
        <p:blipFill>
          <a:blip r:embed="rId4"/>
          <a:stretch/>
        </p:blipFill>
        <p:spPr>
          <a:xfrm>
            <a:off x="8185320" y="2913120"/>
            <a:ext cx="852480" cy="857160"/>
          </a:xfrm>
          <a:prstGeom prst="rect">
            <a:avLst/>
          </a:prstGeom>
          <a:ln w="0">
            <a:noFill/>
          </a:ln>
        </p:spPr>
      </p:pic>
      <p:sp>
        <p:nvSpPr>
          <p:cNvPr id="374" name="Line 52"/>
          <p:cNvSpPr/>
          <p:nvPr/>
        </p:nvSpPr>
        <p:spPr>
          <a:xfrm>
            <a:off x="542880" y="250668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4"/>
          <p:cNvSpPr/>
          <p:nvPr/>
        </p:nvSpPr>
        <p:spPr>
          <a:xfrm>
            <a:off x="1393920" y="2517840"/>
            <a:ext cx="41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5"/>
          <p:cNvSpPr/>
          <p:nvPr/>
        </p:nvSpPr>
        <p:spPr>
          <a:xfrm flipV="1">
            <a:off x="525600" y="4807080"/>
            <a:ext cx="5061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6"/>
          <p:cNvSpPr/>
          <p:nvPr/>
        </p:nvSpPr>
        <p:spPr>
          <a:xfrm>
            <a:off x="7194600" y="3489480"/>
            <a:ext cx="26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7"/>
          <p:cNvSpPr/>
          <p:nvPr/>
        </p:nvSpPr>
        <p:spPr>
          <a:xfrm>
            <a:off x="3676680" y="3400560"/>
            <a:ext cx="549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8"/>
          <p:cNvSpPr/>
          <p:nvPr/>
        </p:nvSpPr>
        <p:spPr>
          <a:xfrm>
            <a:off x="3672000" y="3121200"/>
            <a:ext cx="557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0"/>
          <p:cNvSpPr/>
          <p:nvPr/>
        </p:nvSpPr>
        <p:spPr>
          <a:xfrm>
            <a:off x="3111480" y="2517840"/>
            <a:ext cx="29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3"/>
          <p:cNvSpPr/>
          <p:nvPr/>
        </p:nvSpPr>
        <p:spPr>
          <a:xfrm>
            <a:off x="3400560" y="2525760"/>
            <a:ext cx="1440" cy="74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4"/>
          <p:cNvSpPr/>
          <p:nvPr/>
        </p:nvSpPr>
        <p:spPr>
          <a:xfrm>
            <a:off x="3400560" y="3276720"/>
            <a:ext cx="26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5"/>
          <p:cNvSpPr/>
          <p:nvPr/>
        </p:nvSpPr>
        <p:spPr>
          <a:xfrm>
            <a:off x="3400560" y="3548160"/>
            <a:ext cx="2635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6"/>
          <p:cNvSpPr/>
          <p:nvPr/>
        </p:nvSpPr>
        <p:spPr>
          <a:xfrm>
            <a:off x="3114720" y="4775040"/>
            <a:ext cx="29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7"/>
          <p:cNvSpPr/>
          <p:nvPr/>
        </p:nvSpPr>
        <p:spPr>
          <a:xfrm>
            <a:off x="3400560" y="3548160"/>
            <a:ext cx="0" cy="122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8"/>
          <p:cNvSpPr/>
          <p:nvPr/>
        </p:nvSpPr>
        <p:spPr>
          <a:xfrm>
            <a:off x="4711680" y="3400560"/>
            <a:ext cx="509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9"/>
          <p:cNvSpPr/>
          <p:nvPr/>
        </p:nvSpPr>
        <p:spPr>
          <a:xfrm>
            <a:off x="5700600" y="3392640"/>
            <a:ext cx="509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0"/>
          <p:cNvSpPr/>
          <p:nvPr/>
        </p:nvSpPr>
        <p:spPr>
          <a:xfrm>
            <a:off x="6621480" y="3392640"/>
            <a:ext cx="552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1"/>
          <p:cNvSpPr/>
          <p:nvPr/>
        </p:nvSpPr>
        <p:spPr>
          <a:xfrm>
            <a:off x="7815240" y="3479760"/>
            <a:ext cx="46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2"/>
          <p:cNvSpPr/>
          <p:nvPr/>
        </p:nvSpPr>
        <p:spPr>
          <a:xfrm>
            <a:off x="5224320" y="3548160"/>
            <a:ext cx="482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89"/>
          <p:cNvGrpSpPr/>
          <p:nvPr/>
        </p:nvGrpSpPr>
        <p:grpSpPr>
          <a:xfrm>
            <a:off x="0" y="4417920"/>
            <a:ext cx="730080" cy="1078200"/>
            <a:chOff x="0" y="4417920"/>
            <a:chExt cx="730080" cy="1078200"/>
          </a:xfrm>
        </p:grpSpPr>
        <p:pic>
          <p:nvPicPr>
            <p:cNvPr id="392" name="Picture 50" descr="thermometer2"/>
            <p:cNvPicPr/>
            <p:nvPr/>
          </p:nvPicPr>
          <p:blipFill>
            <a:blip r:embed="rId5"/>
            <a:stretch/>
          </p:blipFill>
          <p:spPr>
            <a:xfrm>
              <a:off x="225360" y="4417920"/>
              <a:ext cx="3222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74"/>
            <p:cNvSpPr/>
            <p:nvPr/>
          </p:nvSpPr>
          <p:spPr>
            <a:xfrm>
              <a:off x="0" y="5219640"/>
              <a:ext cx="7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75"/>
            <p:cNvSpPr/>
            <p:nvPr/>
          </p:nvSpPr>
          <p:spPr>
            <a:xfrm>
              <a:off x="23760" y="5027760"/>
              <a:ext cx="7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n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88"/>
          <p:cNvGrpSpPr/>
          <p:nvPr/>
        </p:nvGrpSpPr>
        <p:grpSpPr>
          <a:xfrm>
            <a:off x="15840" y="1919160"/>
            <a:ext cx="714240" cy="1688040"/>
            <a:chOff x="15840" y="1919160"/>
            <a:chExt cx="714240" cy="1688040"/>
          </a:xfrm>
        </p:grpSpPr>
        <p:pic>
          <p:nvPicPr>
            <p:cNvPr id="396" name="Picture 51" descr="thermometer"/>
            <p:cNvPicPr/>
            <p:nvPr/>
          </p:nvPicPr>
          <p:blipFill>
            <a:blip r:embed="rId6"/>
            <a:stretch/>
          </p:blipFill>
          <p:spPr>
            <a:xfrm>
              <a:off x="264960" y="1919160"/>
              <a:ext cx="28116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73"/>
            <p:cNvSpPr/>
            <p:nvPr/>
          </p:nvSpPr>
          <p:spPr>
            <a:xfrm>
              <a:off x="23760" y="3138480"/>
              <a:ext cx="7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n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76"/>
            <p:cNvSpPr/>
            <p:nvPr/>
          </p:nvSpPr>
          <p:spPr>
            <a:xfrm>
              <a:off x="15840" y="3330720"/>
              <a:ext cx="7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80"/>
          <p:cNvSpPr/>
          <p:nvPr/>
        </p:nvSpPr>
        <p:spPr>
          <a:xfrm>
            <a:off x="3984480" y="11700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1"/>
          <p:cNvSpPr/>
          <p:nvPr/>
        </p:nvSpPr>
        <p:spPr>
          <a:xfrm>
            <a:off x="3718440" y="15256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2"/>
          <p:cNvSpPr/>
          <p:nvPr/>
        </p:nvSpPr>
        <p:spPr>
          <a:xfrm>
            <a:off x="945360" y="14079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3"/>
          <p:cNvSpPr/>
          <p:nvPr/>
        </p:nvSpPr>
        <p:spPr>
          <a:xfrm>
            <a:off x="928080" y="36608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4"/>
          <p:cNvSpPr/>
          <p:nvPr/>
        </p:nvSpPr>
        <p:spPr>
          <a:xfrm>
            <a:off x="7288920" y="240336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宋体"/>
              </a:rPr>
              <a:t>Binary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7"/>
          <p:cNvSpPr/>
          <p:nvPr/>
        </p:nvSpPr>
        <p:spPr>
          <a:xfrm>
            <a:off x="8209080" y="385596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h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3"/>
          <p:cNvSpPr/>
          <p:nvPr/>
        </p:nvSpPr>
        <p:spPr>
          <a:xfrm>
            <a:off x="1830240" y="3900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og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4"/>
          <p:cNvSpPr/>
          <p:nvPr/>
        </p:nvSpPr>
        <p:spPr>
          <a:xfrm>
            <a:off x="1824120" y="4224240"/>
            <a:ext cx="1303200" cy="69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5"/>
          <p:cNvSpPr/>
          <p:nvPr/>
        </p:nvSpPr>
        <p:spPr>
          <a:xfrm>
            <a:off x="1830240" y="42321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1:water:tem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6"/>
          <p:cNvSpPr/>
          <p:nvPr/>
        </p:nvSpPr>
        <p:spPr>
          <a:xfrm>
            <a:off x="1395360" y="481176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E3B2-A58B-4267-8D78-8572F0C59B30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side an IOC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"/>
          <p:cNvSpPr/>
          <p:nvPr/>
        </p:nvSpPr>
        <p:spPr>
          <a:xfrm>
            <a:off x="1373040" y="1779480"/>
            <a:ext cx="541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1353960" y="3809880"/>
            <a:ext cx="2930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1940040" y="2378160"/>
            <a:ext cx="5095800" cy="24796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2828880" y="2378160"/>
            <a:ext cx="34117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ne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1390680" y="1378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8"/>
          <p:cNvSpPr/>
          <p:nvPr/>
        </p:nvSpPr>
        <p:spPr>
          <a:xfrm>
            <a:off x="4570560" y="177336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 flipH="1">
            <a:off x="3970440" y="2797200"/>
            <a:ext cx="296640" cy="38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"/>
          <p:cNvSpPr/>
          <p:nvPr/>
        </p:nvSpPr>
        <p:spPr>
          <a:xfrm>
            <a:off x="5765760" y="2797200"/>
            <a:ext cx="238320" cy="374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2665440" y="4440240"/>
            <a:ext cx="26510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2101680" y="5475240"/>
            <a:ext cx="48168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/O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4"/>
          <p:cNvSpPr/>
          <p:nvPr/>
        </p:nvSpPr>
        <p:spPr>
          <a:xfrm>
            <a:off x="3971880" y="4094280"/>
            <a:ext cx="0" cy="347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1938240" y="23842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204840" y="949320"/>
            <a:ext cx="70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major software components of an IOC (IOC C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7"/>
          <p:cNvSpPr/>
          <p:nvPr/>
        </p:nvSpPr>
        <p:spPr>
          <a:xfrm>
            <a:off x="4325760" y="487368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2868480" y="3191040"/>
            <a:ext cx="2219400" cy="8942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5299200" y="3182760"/>
            <a:ext cx="1592280" cy="398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que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2" dur="1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EED7-B078-45BE-9EA1-98062D259051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e Sequencer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90480" y="1168200"/>
            <a:ext cx="8191440" cy="41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uns programs written in State Notation Language (S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NL is a ‘C’ like language to facilitate programming of sequential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ast execution - compiled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gramming interface to extend EPICS in the real-time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on u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vide automated start-up sequences like vacuum or RF where subsystems need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vide fault recovery or transition to a saf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vide automatic calibration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kkhtxkut[1]"/>
          <p:cNvPicPr/>
          <p:nvPr/>
        </p:nvPicPr>
        <p:blipFill>
          <a:blip r:embed="rId1"/>
          <a:stretch/>
        </p:blipFill>
        <p:spPr>
          <a:xfrm>
            <a:off x="8170920" y="1668600"/>
            <a:ext cx="4125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12C0-9138-4DFF-8C8B-141E84539397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NL implements State Transition Diagram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3373560" y="1776240"/>
            <a:ext cx="2276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5649840" y="1776240"/>
            <a:ext cx="1800" cy="9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 flipH="1">
            <a:off x="3373200" y="2687760"/>
            <a:ext cx="227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3373560" y="1776240"/>
            <a:ext cx="1440" cy="9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4104000" y="1973160"/>
            <a:ext cx="94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9"/>
          <p:cNvSpPr/>
          <p:nvPr/>
        </p:nvSpPr>
        <p:spPr>
          <a:xfrm>
            <a:off x="3373560" y="4054320"/>
            <a:ext cx="2276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0"/>
          <p:cNvSpPr/>
          <p:nvPr/>
        </p:nvSpPr>
        <p:spPr>
          <a:xfrm>
            <a:off x="5649840" y="4054320"/>
            <a:ext cx="180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1"/>
          <p:cNvSpPr/>
          <p:nvPr/>
        </p:nvSpPr>
        <p:spPr>
          <a:xfrm flipH="1">
            <a:off x="3373200" y="4967280"/>
            <a:ext cx="227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2"/>
          <p:cNvSpPr/>
          <p:nvPr/>
        </p:nvSpPr>
        <p:spPr>
          <a:xfrm flipV="1">
            <a:off x="3373560" y="4054320"/>
            <a:ext cx="144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4106160" y="4297320"/>
            <a:ext cx="925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"/>
          <p:cNvSpPr/>
          <p:nvPr/>
        </p:nvSpPr>
        <p:spPr>
          <a:xfrm>
            <a:off x="4994280" y="3327480"/>
            <a:ext cx="1481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5602320" y="2946240"/>
            <a:ext cx="77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5568840" y="3294000"/>
            <a:ext cx="87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7"/>
          <p:cNvSpPr/>
          <p:nvPr/>
        </p:nvSpPr>
        <p:spPr>
          <a:xfrm>
            <a:off x="3264120" y="296388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3429360" y="3255840"/>
            <a:ext cx="86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t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 flipH="1" flipV="1">
            <a:off x="6431040" y="2979720"/>
            <a:ext cx="46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0"/>
          <p:cNvSpPr/>
          <p:nvPr/>
        </p:nvSpPr>
        <p:spPr>
          <a:xfrm flipH="1" flipV="1">
            <a:off x="6431040" y="2979720"/>
            <a:ext cx="46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1"/>
          <p:cNvSpPr/>
          <p:nvPr/>
        </p:nvSpPr>
        <p:spPr>
          <a:xfrm flipH="1" flipV="1">
            <a:off x="4509720" y="1093680"/>
            <a:ext cx="324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2"/>
          <p:cNvSpPr/>
          <p:nvPr/>
        </p:nvSpPr>
        <p:spPr>
          <a:xfrm flipV="1">
            <a:off x="4513320" y="1495080"/>
            <a:ext cx="763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3"/>
          <p:cNvGrpSpPr/>
          <p:nvPr/>
        </p:nvGrpSpPr>
        <p:grpSpPr>
          <a:xfrm>
            <a:off x="4438800" y="1495440"/>
            <a:ext cx="152280" cy="282600"/>
            <a:chOff x="4438800" y="1495440"/>
            <a:chExt cx="152280" cy="282600"/>
          </a:xfrm>
        </p:grpSpPr>
        <p:sp>
          <p:nvSpPr>
            <p:cNvPr id="453" name="Freeform 24"/>
            <p:cNvSpPr/>
            <p:nvPr/>
          </p:nvSpPr>
          <p:spPr>
            <a:xfrm>
              <a:off x="4513320" y="1495440"/>
              <a:ext cx="77400" cy="28260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49" h="178">
                  <a:moveTo>
                    <a:pt x="0" y="27"/>
                  </a:moveTo>
                  <a:lnTo>
                    <a:pt x="48" y="0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5"/>
            <p:cNvSpPr/>
            <p:nvPr/>
          </p:nvSpPr>
          <p:spPr>
            <a:xfrm>
              <a:off x="4438800" y="1495440"/>
              <a:ext cx="152280" cy="2826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6" h="178">
                  <a:moveTo>
                    <a:pt x="47" y="27"/>
                  </a:moveTo>
                  <a:lnTo>
                    <a:pt x="95" y="0"/>
                  </a:lnTo>
                  <a:lnTo>
                    <a:pt x="47" y="1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Freeform 26"/>
          <p:cNvSpPr/>
          <p:nvPr/>
        </p:nvSpPr>
        <p:spPr>
          <a:xfrm>
            <a:off x="4438800" y="1495440"/>
            <a:ext cx="152280" cy="282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6" h="178">
                <a:moveTo>
                  <a:pt x="47" y="27"/>
                </a:moveTo>
                <a:lnTo>
                  <a:pt x="95" y="0"/>
                </a:lnTo>
                <a:lnTo>
                  <a:pt x="47" y="177"/>
                </a:lnTo>
                <a:lnTo>
                  <a:pt x="0" y="0"/>
                </a:lnTo>
                <a:lnTo>
                  <a:pt x="47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7"/>
          <p:cNvSpPr/>
          <p:nvPr/>
        </p:nvSpPr>
        <p:spPr>
          <a:xfrm flipH="1" flipV="1">
            <a:off x="4509720" y="4967280"/>
            <a:ext cx="324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8"/>
          <p:cNvSpPr/>
          <p:nvPr/>
        </p:nvSpPr>
        <p:spPr>
          <a:xfrm flipV="1">
            <a:off x="4513320" y="5368680"/>
            <a:ext cx="76320" cy="4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29"/>
          <p:cNvGrpSpPr/>
          <p:nvPr/>
        </p:nvGrpSpPr>
        <p:grpSpPr>
          <a:xfrm>
            <a:off x="4438800" y="5369040"/>
            <a:ext cx="152280" cy="282600"/>
            <a:chOff x="4438800" y="5369040"/>
            <a:chExt cx="152280" cy="282600"/>
          </a:xfrm>
        </p:grpSpPr>
        <p:sp>
          <p:nvSpPr>
            <p:cNvPr id="459" name="Freeform 30"/>
            <p:cNvSpPr/>
            <p:nvPr/>
          </p:nvSpPr>
          <p:spPr>
            <a:xfrm>
              <a:off x="4513320" y="5369040"/>
              <a:ext cx="77400" cy="28260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49" h="178">
                  <a:moveTo>
                    <a:pt x="0" y="28"/>
                  </a:moveTo>
                  <a:lnTo>
                    <a:pt x="48" y="0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1"/>
            <p:cNvSpPr/>
            <p:nvPr/>
          </p:nvSpPr>
          <p:spPr>
            <a:xfrm>
              <a:off x="4438800" y="5369040"/>
              <a:ext cx="152280" cy="2826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6" h="178">
                  <a:moveTo>
                    <a:pt x="47" y="28"/>
                  </a:moveTo>
                  <a:lnTo>
                    <a:pt x="95" y="0"/>
                  </a:lnTo>
                  <a:lnTo>
                    <a:pt x="47" y="1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Freeform 32"/>
          <p:cNvSpPr/>
          <p:nvPr/>
        </p:nvSpPr>
        <p:spPr>
          <a:xfrm>
            <a:off x="4438800" y="5369040"/>
            <a:ext cx="152280" cy="282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6" h="178">
                <a:moveTo>
                  <a:pt x="47" y="28"/>
                </a:moveTo>
                <a:lnTo>
                  <a:pt x="95" y="0"/>
                </a:lnTo>
                <a:lnTo>
                  <a:pt x="47" y="177"/>
                </a:lnTo>
                <a:lnTo>
                  <a:pt x="0" y="0"/>
                </a:lnTo>
                <a:lnTo>
                  <a:pt x="47" y="2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3"/>
          <p:cNvSpPr/>
          <p:nvPr/>
        </p:nvSpPr>
        <p:spPr>
          <a:xfrm flipH="1" flipV="1">
            <a:off x="4509720" y="2687760"/>
            <a:ext cx="3240" cy="136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4"/>
          <p:cNvSpPr/>
          <p:nvPr/>
        </p:nvSpPr>
        <p:spPr>
          <a:xfrm flipV="1">
            <a:off x="4513320" y="3773160"/>
            <a:ext cx="76320" cy="4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35"/>
          <p:cNvGrpSpPr/>
          <p:nvPr/>
        </p:nvGrpSpPr>
        <p:grpSpPr>
          <a:xfrm>
            <a:off x="4438800" y="3773520"/>
            <a:ext cx="152280" cy="282240"/>
            <a:chOff x="4438800" y="3773520"/>
            <a:chExt cx="152280" cy="282240"/>
          </a:xfrm>
        </p:grpSpPr>
        <p:sp>
          <p:nvSpPr>
            <p:cNvPr id="465" name="Freeform 36"/>
            <p:cNvSpPr/>
            <p:nvPr/>
          </p:nvSpPr>
          <p:spPr>
            <a:xfrm>
              <a:off x="4513320" y="3773520"/>
              <a:ext cx="77400" cy="28224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9" h="178">
                  <a:moveTo>
                    <a:pt x="0" y="28"/>
                  </a:moveTo>
                  <a:lnTo>
                    <a:pt x="48" y="0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7"/>
            <p:cNvSpPr/>
            <p:nvPr/>
          </p:nvSpPr>
          <p:spPr>
            <a:xfrm>
              <a:off x="4438800" y="3773520"/>
              <a:ext cx="152280" cy="282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96" h="178">
                  <a:moveTo>
                    <a:pt x="47" y="28"/>
                  </a:moveTo>
                  <a:lnTo>
                    <a:pt x="95" y="0"/>
                  </a:lnTo>
                  <a:lnTo>
                    <a:pt x="47" y="1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Freeform 38"/>
          <p:cNvSpPr/>
          <p:nvPr/>
        </p:nvSpPr>
        <p:spPr>
          <a:xfrm>
            <a:off x="4438800" y="3773520"/>
            <a:ext cx="152280" cy="282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6" h="178">
                <a:moveTo>
                  <a:pt x="47" y="28"/>
                </a:moveTo>
                <a:lnTo>
                  <a:pt x="95" y="0"/>
                </a:lnTo>
                <a:lnTo>
                  <a:pt x="47" y="177"/>
                </a:lnTo>
                <a:lnTo>
                  <a:pt x="0" y="0"/>
                </a:lnTo>
                <a:lnTo>
                  <a:pt x="47" y="2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9"/>
          <p:cNvSpPr/>
          <p:nvPr/>
        </p:nvSpPr>
        <p:spPr>
          <a:xfrm>
            <a:off x="4714920" y="2963880"/>
            <a:ext cx="633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40"/>
          <p:cNvSpPr/>
          <p:nvPr/>
        </p:nvSpPr>
        <p:spPr>
          <a:xfrm>
            <a:off x="4714920" y="3421080"/>
            <a:ext cx="633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41"/>
          <p:cNvSpPr/>
          <p:nvPr/>
        </p:nvSpPr>
        <p:spPr>
          <a:xfrm flipV="1">
            <a:off x="4646520" y="3262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42"/>
          <p:cNvGrpSpPr/>
          <p:nvPr/>
        </p:nvGrpSpPr>
        <p:grpSpPr>
          <a:xfrm>
            <a:off x="4722840" y="2881080"/>
            <a:ext cx="152280" cy="75960"/>
            <a:chOff x="4722840" y="2881080"/>
            <a:chExt cx="152280" cy="75960"/>
          </a:xfrm>
        </p:grpSpPr>
        <p:sp>
          <p:nvSpPr>
            <p:cNvPr id="472" name="Line 43"/>
            <p:cNvSpPr/>
            <p:nvPr/>
          </p:nvSpPr>
          <p:spPr>
            <a:xfrm flipV="1">
              <a:off x="4798800" y="288108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44"/>
            <p:cNvSpPr/>
            <p:nvPr/>
          </p:nvSpPr>
          <p:spPr>
            <a:xfrm flipV="1">
              <a:off x="4722840" y="288108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Line 45"/>
          <p:cNvSpPr/>
          <p:nvPr/>
        </p:nvSpPr>
        <p:spPr>
          <a:xfrm>
            <a:off x="4799160" y="371952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46"/>
          <p:cNvSpPr/>
          <p:nvPr/>
        </p:nvSpPr>
        <p:spPr>
          <a:xfrm>
            <a:off x="4722840" y="371952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7"/>
          <p:cNvSpPr/>
          <p:nvPr/>
        </p:nvSpPr>
        <p:spPr>
          <a:xfrm flipH="1" flipV="1">
            <a:off x="4646520" y="33382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F5F6-E4E8-4460-9808-04541F425DCC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TD Examp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"/>
          <p:cNvSpPr/>
          <p:nvPr/>
        </p:nvSpPr>
        <p:spPr>
          <a:xfrm flipH="1" flipV="1">
            <a:off x="3468600" y="3215880"/>
            <a:ext cx="46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5"/>
          <p:cNvSpPr/>
          <p:nvPr/>
        </p:nvSpPr>
        <p:spPr>
          <a:xfrm flipH="1" flipV="1">
            <a:off x="3468600" y="3215880"/>
            <a:ext cx="46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3719520" y="950760"/>
            <a:ext cx="83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7"/>
          <p:cNvSpPr/>
          <p:nvPr/>
        </p:nvSpPr>
        <p:spPr>
          <a:xfrm>
            <a:off x="3228840" y="2041560"/>
            <a:ext cx="18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8"/>
          <p:cNvSpPr/>
          <p:nvPr/>
        </p:nvSpPr>
        <p:spPr>
          <a:xfrm>
            <a:off x="5051520" y="204156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9"/>
          <p:cNvSpPr/>
          <p:nvPr/>
        </p:nvSpPr>
        <p:spPr>
          <a:xfrm flipH="1">
            <a:off x="3228480" y="2746440"/>
            <a:ext cx="18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0"/>
          <p:cNvSpPr/>
          <p:nvPr/>
        </p:nvSpPr>
        <p:spPr>
          <a:xfrm flipV="1">
            <a:off x="3228840" y="204156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3232080" y="2143080"/>
            <a:ext cx="152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w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3231000" y="4276800"/>
            <a:ext cx="156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3"/>
          <p:cNvSpPr/>
          <p:nvPr/>
        </p:nvSpPr>
        <p:spPr>
          <a:xfrm>
            <a:off x="4735440" y="329400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4148280" y="285264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essure &gt; 5.1 uTo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4808160" y="33703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en the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3228840" y="4152960"/>
            <a:ext cx="18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7"/>
          <p:cNvSpPr/>
          <p:nvPr/>
        </p:nvSpPr>
        <p:spPr>
          <a:xfrm>
            <a:off x="5051520" y="415296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8"/>
          <p:cNvSpPr/>
          <p:nvPr/>
        </p:nvSpPr>
        <p:spPr>
          <a:xfrm flipH="1">
            <a:off x="3228480" y="4857840"/>
            <a:ext cx="18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9"/>
          <p:cNvSpPr/>
          <p:nvPr/>
        </p:nvSpPr>
        <p:spPr>
          <a:xfrm flipV="1">
            <a:off x="3228840" y="415296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0"/>
          <p:cNvSpPr/>
          <p:nvPr/>
        </p:nvSpPr>
        <p:spPr>
          <a:xfrm>
            <a:off x="4695840" y="53341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1"/>
          <p:cNvSpPr/>
          <p:nvPr/>
        </p:nvSpPr>
        <p:spPr>
          <a:xfrm>
            <a:off x="4217400" y="4910040"/>
            <a:ext cx="250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essure &lt; 4.9 uTo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2"/>
          <p:cNvSpPr/>
          <p:nvPr/>
        </p:nvSpPr>
        <p:spPr>
          <a:xfrm>
            <a:off x="4768920" y="5410080"/>
            <a:ext cx="192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ose the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3"/>
          <p:cNvSpPr/>
          <p:nvPr/>
        </p:nvSpPr>
        <p:spPr>
          <a:xfrm flipH="1">
            <a:off x="2090520" y="5796000"/>
            <a:ext cx="204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4"/>
          <p:cNvSpPr/>
          <p:nvPr/>
        </p:nvSpPr>
        <p:spPr>
          <a:xfrm flipV="1">
            <a:off x="2090880" y="2395440"/>
            <a:ext cx="0" cy="340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5"/>
          <p:cNvSpPr/>
          <p:nvPr/>
        </p:nvSpPr>
        <p:spPr>
          <a:xfrm flipH="1" flipV="1">
            <a:off x="4136760" y="1339920"/>
            <a:ext cx="324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6"/>
          <p:cNvSpPr/>
          <p:nvPr/>
        </p:nvSpPr>
        <p:spPr>
          <a:xfrm flipV="1">
            <a:off x="4140360" y="1752480"/>
            <a:ext cx="75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27"/>
          <p:cNvGrpSpPr/>
          <p:nvPr/>
        </p:nvGrpSpPr>
        <p:grpSpPr>
          <a:xfrm>
            <a:off x="4064040" y="1752480"/>
            <a:ext cx="154080" cy="293400"/>
            <a:chOff x="4064040" y="1752480"/>
            <a:chExt cx="154080" cy="293400"/>
          </a:xfrm>
        </p:grpSpPr>
        <p:sp>
          <p:nvSpPr>
            <p:cNvPr id="503" name="Freeform 28"/>
            <p:cNvSpPr/>
            <p:nvPr/>
          </p:nvSpPr>
          <p:spPr>
            <a:xfrm>
              <a:off x="4140360" y="1752480"/>
              <a:ext cx="77760" cy="293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9" h="185">
                  <a:moveTo>
                    <a:pt x="0" y="29"/>
                  </a:moveTo>
                  <a:lnTo>
                    <a:pt x="48" y="0"/>
                  </a:lnTo>
                  <a:lnTo>
                    <a:pt x="0" y="1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9"/>
            <p:cNvSpPr/>
            <p:nvPr/>
          </p:nvSpPr>
          <p:spPr>
            <a:xfrm>
              <a:off x="4064040" y="1752480"/>
              <a:ext cx="154080" cy="2934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97" h="185">
                  <a:moveTo>
                    <a:pt x="48" y="29"/>
                  </a:moveTo>
                  <a:lnTo>
                    <a:pt x="96" y="0"/>
                  </a:lnTo>
                  <a:lnTo>
                    <a:pt x="48" y="18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Freeform 30"/>
          <p:cNvSpPr/>
          <p:nvPr/>
        </p:nvSpPr>
        <p:spPr>
          <a:xfrm>
            <a:off x="4064040" y="1752480"/>
            <a:ext cx="154080" cy="293760"/>
          </a:xfrm>
          <a:custGeom>
            <a:avLst/>
            <a:gdLst>
              <a:gd name="textAreaLeft" fmla="*/ 0 w 154080"/>
              <a:gd name="textAreaRight" fmla="*/ 154440 w 1540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97" h="185">
                <a:moveTo>
                  <a:pt x="48" y="29"/>
                </a:moveTo>
                <a:lnTo>
                  <a:pt x="96" y="0"/>
                </a:lnTo>
                <a:lnTo>
                  <a:pt x="48" y="184"/>
                </a:lnTo>
                <a:lnTo>
                  <a:pt x="0" y="0"/>
                </a:lnTo>
                <a:lnTo>
                  <a:pt x="48" y="2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1"/>
          <p:cNvSpPr/>
          <p:nvPr/>
        </p:nvSpPr>
        <p:spPr>
          <a:xfrm flipV="1">
            <a:off x="4140360" y="2746080"/>
            <a:ext cx="1440" cy="14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2"/>
          <p:cNvSpPr/>
          <p:nvPr/>
        </p:nvSpPr>
        <p:spPr>
          <a:xfrm flipV="1">
            <a:off x="4140360" y="3863880"/>
            <a:ext cx="75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33"/>
          <p:cNvGrpSpPr/>
          <p:nvPr/>
        </p:nvGrpSpPr>
        <p:grpSpPr>
          <a:xfrm>
            <a:off x="4064040" y="3863880"/>
            <a:ext cx="154080" cy="292320"/>
            <a:chOff x="4064040" y="3863880"/>
            <a:chExt cx="154080" cy="292320"/>
          </a:xfrm>
        </p:grpSpPr>
        <p:sp>
          <p:nvSpPr>
            <p:cNvPr id="509" name="Freeform 34"/>
            <p:cNvSpPr/>
            <p:nvPr/>
          </p:nvSpPr>
          <p:spPr>
            <a:xfrm>
              <a:off x="4140360" y="3863880"/>
              <a:ext cx="77760" cy="2923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49" h="184">
                  <a:moveTo>
                    <a:pt x="0" y="29"/>
                  </a:moveTo>
                  <a:lnTo>
                    <a:pt x="48" y="0"/>
                  </a:lnTo>
                  <a:lnTo>
                    <a:pt x="0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5"/>
            <p:cNvSpPr/>
            <p:nvPr/>
          </p:nvSpPr>
          <p:spPr>
            <a:xfrm>
              <a:off x="4064040" y="3863880"/>
              <a:ext cx="154080" cy="2923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97" h="184">
                  <a:moveTo>
                    <a:pt x="48" y="29"/>
                  </a:moveTo>
                  <a:lnTo>
                    <a:pt x="96" y="0"/>
                  </a:lnTo>
                  <a:lnTo>
                    <a:pt x="48" y="18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Freeform 36"/>
          <p:cNvSpPr/>
          <p:nvPr/>
        </p:nvSpPr>
        <p:spPr>
          <a:xfrm>
            <a:off x="4064040" y="3863880"/>
            <a:ext cx="154080" cy="292320"/>
          </a:xfrm>
          <a:custGeom>
            <a:avLst/>
            <a:gdLst>
              <a:gd name="textAreaLeft" fmla="*/ 0 w 154080"/>
              <a:gd name="textAreaRight" fmla="*/ 154440 w 1540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7" h="184">
                <a:moveTo>
                  <a:pt x="48" y="29"/>
                </a:moveTo>
                <a:lnTo>
                  <a:pt x="96" y="0"/>
                </a:lnTo>
                <a:lnTo>
                  <a:pt x="48" y="183"/>
                </a:lnTo>
                <a:lnTo>
                  <a:pt x="0" y="0"/>
                </a:lnTo>
                <a:lnTo>
                  <a:pt x="48" y="2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7"/>
          <p:cNvSpPr/>
          <p:nvPr/>
        </p:nvSpPr>
        <p:spPr>
          <a:xfrm flipH="1" flipV="1">
            <a:off x="4148280" y="4834080"/>
            <a:ext cx="288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8"/>
          <p:cNvSpPr/>
          <p:nvPr/>
        </p:nvSpPr>
        <p:spPr>
          <a:xfrm flipV="1">
            <a:off x="4140360" y="5506560"/>
            <a:ext cx="7596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39"/>
          <p:cNvGrpSpPr/>
          <p:nvPr/>
        </p:nvGrpSpPr>
        <p:grpSpPr>
          <a:xfrm>
            <a:off x="4064040" y="5506920"/>
            <a:ext cx="154080" cy="290520"/>
            <a:chOff x="4064040" y="5506920"/>
            <a:chExt cx="154080" cy="290520"/>
          </a:xfrm>
        </p:grpSpPr>
        <p:sp>
          <p:nvSpPr>
            <p:cNvPr id="515" name="Freeform 40"/>
            <p:cNvSpPr/>
            <p:nvPr/>
          </p:nvSpPr>
          <p:spPr>
            <a:xfrm>
              <a:off x="4140360" y="5506920"/>
              <a:ext cx="77760" cy="290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49" h="183">
                  <a:moveTo>
                    <a:pt x="0" y="27"/>
                  </a:moveTo>
                  <a:lnTo>
                    <a:pt x="48" y="0"/>
                  </a:lnTo>
                  <a:lnTo>
                    <a:pt x="0" y="1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1"/>
            <p:cNvSpPr/>
            <p:nvPr/>
          </p:nvSpPr>
          <p:spPr>
            <a:xfrm>
              <a:off x="4064040" y="5506920"/>
              <a:ext cx="154080" cy="2905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97" h="183">
                  <a:moveTo>
                    <a:pt x="48" y="27"/>
                  </a:moveTo>
                  <a:lnTo>
                    <a:pt x="96" y="0"/>
                  </a:lnTo>
                  <a:lnTo>
                    <a:pt x="48" y="18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Freeform 42"/>
          <p:cNvSpPr/>
          <p:nvPr/>
        </p:nvSpPr>
        <p:spPr>
          <a:xfrm>
            <a:off x="4064040" y="5506920"/>
            <a:ext cx="154080" cy="290520"/>
          </a:xfrm>
          <a:custGeom>
            <a:avLst/>
            <a:gdLst>
              <a:gd name="textAreaLeft" fmla="*/ 0 w 154080"/>
              <a:gd name="textAreaRight" fmla="*/ 154440 w 15408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97" h="183">
                <a:moveTo>
                  <a:pt x="48" y="27"/>
                </a:moveTo>
                <a:lnTo>
                  <a:pt x="96" y="0"/>
                </a:lnTo>
                <a:lnTo>
                  <a:pt x="48" y="182"/>
                </a:lnTo>
                <a:lnTo>
                  <a:pt x="0" y="0"/>
                </a:lnTo>
                <a:lnTo>
                  <a:pt x="48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3"/>
          <p:cNvSpPr/>
          <p:nvPr/>
        </p:nvSpPr>
        <p:spPr>
          <a:xfrm flipH="1">
            <a:off x="2091960" y="2371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4"/>
          <p:cNvSpPr/>
          <p:nvPr/>
        </p:nvSpPr>
        <p:spPr>
          <a:xfrm flipH="1" flipV="1">
            <a:off x="2946240" y="2316240"/>
            <a:ext cx="4464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45"/>
          <p:cNvGrpSpPr/>
          <p:nvPr/>
        </p:nvGrpSpPr>
        <p:grpSpPr>
          <a:xfrm>
            <a:off x="2946240" y="2316240"/>
            <a:ext cx="284400" cy="158760"/>
            <a:chOff x="2946240" y="2316240"/>
            <a:chExt cx="284400" cy="158760"/>
          </a:xfrm>
        </p:grpSpPr>
        <p:sp>
          <p:nvSpPr>
            <p:cNvPr id="521" name="Freeform 46"/>
            <p:cNvSpPr/>
            <p:nvPr/>
          </p:nvSpPr>
          <p:spPr>
            <a:xfrm>
              <a:off x="2946240" y="2316240"/>
              <a:ext cx="284400" cy="8100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79" h="51">
                  <a:moveTo>
                    <a:pt x="28" y="50"/>
                  </a:moveTo>
                  <a:lnTo>
                    <a:pt x="0" y="0"/>
                  </a:lnTo>
                  <a:lnTo>
                    <a:pt x="178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7"/>
            <p:cNvSpPr/>
            <p:nvPr/>
          </p:nvSpPr>
          <p:spPr>
            <a:xfrm>
              <a:off x="2946240" y="2316240"/>
              <a:ext cx="284400" cy="15876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9" h="100">
                  <a:moveTo>
                    <a:pt x="28" y="50"/>
                  </a:moveTo>
                  <a:lnTo>
                    <a:pt x="0" y="0"/>
                  </a:lnTo>
                  <a:lnTo>
                    <a:pt x="178" y="50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Freeform 48"/>
          <p:cNvSpPr/>
          <p:nvPr/>
        </p:nvSpPr>
        <p:spPr>
          <a:xfrm>
            <a:off x="2946240" y="2316240"/>
            <a:ext cx="284400" cy="158760"/>
          </a:xfrm>
          <a:custGeom>
            <a:avLst/>
            <a:gdLst>
              <a:gd name="textAreaLeft" fmla="*/ 0 w 284400"/>
              <a:gd name="textAreaRight" fmla="*/ 284760 w 2844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9" h="100">
                <a:moveTo>
                  <a:pt x="28" y="50"/>
                </a:moveTo>
                <a:lnTo>
                  <a:pt x="0" y="0"/>
                </a:lnTo>
                <a:lnTo>
                  <a:pt x="178" y="50"/>
                </a:lnTo>
                <a:lnTo>
                  <a:pt x="0" y="99"/>
                </a:lnTo>
                <a:lnTo>
                  <a:pt x="28" y="5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F7F4-A2B2-4C43-9398-7D70C17F08A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side an IOC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"/>
          <p:cNvSpPr/>
          <p:nvPr/>
        </p:nvSpPr>
        <p:spPr>
          <a:xfrm>
            <a:off x="1373040" y="1779480"/>
            <a:ext cx="541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"/>
          <p:cNvSpPr/>
          <p:nvPr/>
        </p:nvSpPr>
        <p:spPr>
          <a:xfrm>
            <a:off x="1353960" y="3809880"/>
            <a:ext cx="2930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1940040" y="2378160"/>
            <a:ext cx="5095800" cy="24796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2828880" y="2378160"/>
            <a:ext cx="34117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ne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1390680" y="1378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8"/>
          <p:cNvSpPr/>
          <p:nvPr/>
        </p:nvSpPr>
        <p:spPr>
          <a:xfrm>
            <a:off x="4570560" y="177336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9"/>
          <p:cNvSpPr/>
          <p:nvPr/>
        </p:nvSpPr>
        <p:spPr>
          <a:xfrm flipH="1">
            <a:off x="3970440" y="2797200"/>
            <a:ext cx="296640" cy="38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>
            <a:off x="5765760" y="2797200"/>
            <a:ext cx="238320" cy="374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2101680" y="5475240"/>
            <a:ext cx="48168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/O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3971880" y="4094280"/>
            <a:ext cx="0" cy="347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1938240" y="23842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204840" y="949320"/>
            <a:ext cx="70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major software components of an IOC (IOC C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4325760" y="487368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2868480" y="3191040"/>
            <a:ext cx="2219400" cy="8942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8"/>
          <p:cNvSpPr/>
          <p:nvPr/>
        </p:nvSpPr>
        <p:spPr>
          <a:xfrm>
            <a:off x="5299200" y="3182760"/>
            <a:ext cx="1592280" cy="398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que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2665440" y="4440240"/>
            <a:ext cx="2651040" cy="398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0" dur="1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1C0D-7D53-47A5-BAB4-250F720428C1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ice Suppor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000" y="1182600"/>
            <a:ext cx="457668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ice and driver support interface hardware to the data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s of devices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ME cards: ADC, DAC, Binary I/O e.t.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tor controll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cillosco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1" descr="tekscope"/>
          <p:cNvPicPr/>
          <p:nvPr/>
        </p:nvPicPr>
        <p:blipFill>
          <a:blip r:embed="rId1"/>
          <a:stretch/>
        </p:blipFill>
        <p:spPr>
          <a:xfrm>
            <a:off x="6851520" y="4730760"/>
            <a:ext cx="1579680" cy="11206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tn_150p1433106"/>
          <p:cNvPicPr/>
          <p:nvPr/>
        </p:nvPicPr>
        <p:blipFill>
          <a:blip r:embed="rId2"/>
          <a:stretch/>
        </p:blipFill>
        <p:spPr>
          <a:xfrm>
            <a:off x="5970600" y="3228840"/>
            <a:ext cx="1371600" cy="924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VME"/>
          <p:cNvPicPr/>
          <p:nvPr/>
        </p:nvPicPr>
        <p:blipFill>
          <a:blip r:embed="rId3"/>
          <a:stretch/>
        </p:blipFill>
        <p:spPr>
          <a:xfrm>
            <a:off x="7512120" y="936720"/>
            <a:ext cx="1081080" cy="19209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abPlc"/>
          <p:cNvPicPr/>
          <p:nvPr/>
        </p:nvPicPr>
        <p:blipFill>
          <a:blip r:embed="rId4"/>
          <a:stretch/>
        </p:blipFill>
        <p:spPr>
          <a:xfrm>
            <a:off x="1689120" y="4591080"/>
            <a:ext cx="1344600" cy="1230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5" descr="agilentScope"/>
          <p:cNvPicPr/>
          <p:nvPr/>
        </p:nvPicPr>
        <p:blipFill>
          <a:blip r:embed="rId5"/>
          <a:stretch/>
        </p:blipFill>
        <p:spPr>
          <a:xfrm>
            <a:off x="5251320" y="4325760"/>
            <a:ext cx="1175040" cy="1116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7" descr="koyo_plc"/>
          <p:cNvPicPr/>
          <p:nvPr/>
        </p:nvPicPr>
        <p:blipFill>
          <a:blip r:embed="rId6"/>
          <a:stretch/>
        </p:blipFill>
        <p:spPr>
          <a:xfrm>
            <a:off x="3419640" y="5102280"/>
            <a:ext cx="1056960" cy="9525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8" descr="newport2"/>
          <p:cNvPicPr/>
          <p:nvPr/>
        </p:nvPicPr>
        <p:blipFill>
          <a:blip r:embed="rId7"/>
          <a:stretch/>
        </p:blipFill>
        <p:spPr>
          <a:xfrm>
            <a:off x="7156440" y="3338640"/>
            <a:ext cx="1371600" cy="971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sis3900"/>
          <p:cNvPicPr/>
          <p:nvPr/>
        </p:nvPicPr>
        <p:blipFill>
          <a:blip r:embed="rId8"/>
          <a:stretch/>
        </p:blipFill>
        <p:spPr>
          <a:xfrm>
            <a:off x="6615000" y="1190520"/>
            <a:ext cx="1192320" cy="1702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9" descr="picture03s"/>
          <p:cNvPicPr/>
          <p:nvPr/>
        </p:nvPicPr>
        <p:blipFill>
          <a:blip r:embed="rId9"/>
          <a:stretch/>
        </p:blipFill>
        <p:spPr>
          <a:xfrm>
            <a:off x="5738760" y="1390680"/>
            <a:ext cx="10699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B048-163E-4590-9A69-BF496E55EEC0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ice Suppor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4577040" cy="30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ually has to be written for ‘new’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ood news – someone, somewhere has usually written support for your device, or a very similar one bef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e the EPICS web site for available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 ask the EPICS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4kjp1irn[1]"/>
          <p:cNvPicPr/>
          <p:nvPr/>
        </p:nvPicPr>
        <p:blipFill>
          <a:blip r:embed="rId1"/>
          <a:stretch/>
        </p:blipFill>
        <p:spPr>
          <a:xfrm>
            <a:off x="4869000" y="4379760"/>
            <a:ext cx="1769760" cy="1849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a41xitja[1]"/>
          <p:cNvPicPr/>
          <p:nvPr/>
        </p:nvPicPr>
        <p:blipFill>
          <a:blip r:embed="rId2"/>
          <a:stretch/>
        </p:blipFill>
        <p:spPr>
          <a:xfrm>
            <a:off x="5792760" y="1144440"/>
            <a:ext cx="3237120" cy="26085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img136"/>
          <p:cNvPicPr/>
          <p:nvPr/>
        </p:nvPicPr>
        <p:blipFill>
          <a:blip r:embed="rId3"/>
          <a:stretch/>
        </p:blipFill>
        <p:spPr>
          <a:xfrm>
            <a:off x="6676920" y="3313080"/>
            <a:ext cx="21830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7" dur="500" fill="hold"/>
                                        <p:tgtEl>
                                          <p:spTgt spid="5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4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6EF9-A6D2-4F40-9586-DA666BEFF69F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en to use databas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39720" y="1120320"/>
            <a:ext cx="7416720" cy="13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rdware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al time performance – no network lat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never a database is good en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111320" y="2889360"/>
          <a:ext cx="6838920" cy="2452680"/>
        </p:xfrm>
        <a:graphic>
          <a:graphicData uri="http://schemas.openxmlformats.org/drawingml/2006/table">
            <a:tbl>
              <a:tblPr/>
              <a:tblGrid>
                <a:gridCol w="3419280"/>
                <a:gridCol w="341964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mplify hardware 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f you have device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figuring not programm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ou need to understand database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base is easily understood by other EPICS develo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eed - All processing (often) in same mach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4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0D41-9DB7-4D29-8787-E991DFD0804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6"/>
          <p:cNvGraphicFramePr/>
          <p:nvPr/>
        </p:nvGraphicFramePr>
        <p:xfrm>
          <a:off x="865080" y="1998720"/>
          <a:ext cx="3508560" cy="42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998720"/>
                    <a:ext cx="350856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en to use the sequencer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054080"/>
            <a:ext cx="40194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sequencing complex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.g. Parking and unparking a telescope mirr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GSSunset4_med"/>
          <p:cNvPicPr/>
          <p:nvPr/>
        </p:nvPicPr>
        <p:blipFill>
          <a:blip r:embed="rId3"/>
          <a:stretch/>
        </p:blipFill>
        <p:spPr>
          <a:xfrm>
            <a:off x="4422600" y="1428840"/>
            <a:ext cx="4432320" cy="46306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7"/>
          <p:cNvSpPr/>
          <p:nvPr/>
        </p:nvSpPr>
        <p:spPr>
          <a:xfrm>
            <a:off x="0" y="-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4596480" y="6026040"/>
            <a:ext cx="39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2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hotograph courtesy of the Gemini Telescopes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F4C6-7E3C-43E6-9887-49EB65E7CC16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2252520" y="1214280"/>
            <a:ext cx="1509840" cy="84312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anonical Form of an EPICS Control System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919080" y="240516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2624040" y="2418840"/>
            <a:ext cx="0" cy="5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547560" y="1214280"/>
            <a:ext cx="1509840" cy="843120"/>
          </a:xfrm>
          <a:prstGeom prst="flowChart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09600" y="2914560"/>
            <a:ext cx="3581280" cy="11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3543480" y="4105440"/>
            <a:ext cx="285480" cy="395280"/>
          </a:xfrm>
          <a:prstGeom prst="upDownArrow">
            <a:avLst>
              <a:gd name="adj1" fmla="val 50000"/>
              <a:gd name="adj2" fmla="val 2756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900000" y="4105440"/>
            <a:ext cx="285840" cy="395280"/>
          </a:xfrm>
          <a:prstGeom prst="upDownArrow">
            <a:avLst>
              <a:gd name="adj1" fmla="val 50000"/>
              <a:gd name="adj2" fmla="val 2752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57040" y="4505400"/>
            <a:ext cx="205740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merci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447840" y="2424240"/>
            <a:ext cx="32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Computer"/>
          <p:cNvPicPr/>
          <p:nvPr/>
        </p:nvPicPr>
        <p:blipFill>
          <a:blip r:embed="rId1"/>
          <a:stretch/>
        </p:blipFill>
        <p:spPr>
          <a:xfrm>
            <a:off x="642960" y="127152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Computer"/>
          <p:cNvPicPr/>
          <p:nvPr/>
        </p:nvPicPr>
        <p:blipFill>
          <a:blip r:embed="rId2"/>
          <a:stretch/>
        </p:blipFill>
        <p:spPr>
          <a:xfrm>
            <a:off x="1309680" y="127152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omputer"/>
          <p:cNvPicPr/>
          <p:nvPr/>
        </p:nvPicPr>
        <p:blipFill>
          <a:blip r:embed="rId3"/>
          <a:stretch/>
        </p:blipFill>
        <p:spPr>
          <a:xfrm>
            <a:off x="2305080" y="127152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Computer"/>
          <p:cNvPicPr/>
          <p:nvPr/>
        </p:nvPicPr>
        <p:blipFill>
          <a:blip r:embed="rId4"/>
          <a:stretch/>
        </p:blipFill>
        <p:spPr>
          <a:xfrm>
            <a:off x="3062160" y="1271520"/>
            <a:ext cx="663840" cy="6634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6"/>
          <p:cNvGrpSpPr/>
          <p:nvPr/>
        </p:nvGrpSpPr>
        <p:grpSpPr>
          <a:xfrm>
            <a:off x="1995480" y="2962440"/>
            <a:ext cx="1843200" cy="1071360"/>
            <a:chOff x="1995480" y="2962440"/>
            <a:chExt cx="1843200" cy="1071360"/>
          </a:xfrm>
        </p:grpSpPr>
        <p:sp>
          <p:nvSpPr>
            <p:cNvPr id="134" name="Rectangle 17"/>
            <p:cNvSpPr/>
            <p:nvPr/>
          </p:nvSpPr>
          <p:spPr>
            <a:xfrm>
              <a:off x="1995480" y="2962440"/>
              <a:ext cx="1271520" cy="514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2281320" y="3247920"/>
              <a:ext cx="1271520" cy="514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2567160" y="3519360"/>
              <a:ext cx="1271520" cy="514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395280" y="2962440"/>
            <a:ext cx="1843200" cy="1071360"/>
            <a:chOff x="395280" y="2962440"/>
            <a:chExt cx="1843200" cy="1071360"/>
          </a:xfrm>
        </p:grpSpPr>
        <p:sp>
          <p:nvSpPr>
            <p:cNvPr id="138" name="Rectangle 21"/>
            <p:cNvSpPr/>
            <p:nvPr/>
          </p:nvSpPr>
          <p:spPr>
            <a:xfrm>
              <a:off x="395280" y="2962440"/>
              <a:ext cx="1271520" cy="51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2"/>
            <p:cNvSpPr/>
            <p:nvPr/>
          </p:nvSpPr>
          <p:spPr>
            <a:xfrm>
              <a:off x="681120" y="3247920"/>
              <a:ext cx="1271520" cy="514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3"/>
            <p:cNvSpPr/>
            <p:nvPr/>
          </p:nvSpPr>
          <p:spPr>
            <a:xfrm>
              <a:off x="966960" y="3519360"/>
              <a:ext cx="1271520" cy="514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Line 24"/>
          <p:cNvSpPr/>
          <p:nvPr/>
        </p:nvSpPr>
        <p:spPr>
          <a:xfrm flipV="1">
            <a:off x="990720" y="188136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 flipV="1">
            <a:off x="1728720" y="184788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 flipV="1">
            <a:off x="2709720" y="184788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 flipV="1">
            <a:off x="3424320" y="187632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8"/>
          <p:cNvSpPr/>
          <p:nvPr/>
        </p:nvSpPr>
        <p:spPr>
          <a:xfrm>
            <a:off x="4357800" y="3062160"/>
            <a:ext cx="2371680" cy="500040"/>
          </a:xfrm>
          <a:prstGeom prst="wedgeRoundRectCallout">
            <a:avLst>
              <a:gd name="adj1" fmla="val -85675"/>
              <a:gd name="adj2" fmla="val -176032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hanne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9"/>
          <p:cNvSpPr/>
          <p:nvPr/>
        </p:nvSpPr>
        <p:spPr>
          <a:xfrm>
            <a:off x="5985000" y="3776760"/>
            <a:ext cx="2904840" cy="1476360"/>
          </a:xfrm>
          <a:prstGeom prst="wedgeRoundRectCallout">
            <a:avLst>
              <a:gd name="adj1" fmla="val -130490"/>
              <a:gd name="adj2" fmla="val -62689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IOC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6481440" y="421812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PIC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5810400" y="44672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quenc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7873920" y="4438800"/>
            <a:ext cx="111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ustom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6797520" y="4716360"/>
            <a:ext cx="13179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4"/>
          <p:cNvSpPr/>
          <p:nvPr/>
        </p:nvSpPr>
        <p:spPr>
          <a:xfrm>
            <a:off x="5391000" y="1071720"/>
            <a:ext cx="2729160" cy="1771560"/>
          </a:xfrm>
          <a:prstGeom prst="wedgeRoundRectCallout">
            <a:avLst>
              <a:gd name="adj1" fmla="val -120796"/>
              <a:gd name="adj2" fmla="val -30467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lien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5675040" y="159552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E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5505480" y="19335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L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7"/>
          <p:cNvSpPr/>
          <p:nvPr/>
        </p:nvSpPr>
        <p:spPr>
          <a:xfrm>
            <a:off x="7229160" y="19288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trip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6269400" y="194328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CL/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5751360" y="2286000"/>
            <a:ext cx="11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erl 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6915960" y="16002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AG Ap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843600" y="2238480"/>
            <a:ext cx="133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any, many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2"/>
          <p:cNvSpPr/>
          <p:nvPr/>
        </p:nvSpPr>
        <p:spPr>
          <a:xfrm>
            <a:off x="4062240" y="5405400"/>
            <a:ext cx="3181680" cy="766800"/>
          </a:xfrm>
          <a:prstGeom prst="wedgeRoundRectCallout">
            <a:avLst>
              <a:gd name="adj1" fmla="val -111625"/>
              <a:gd name="adj2" fmla="val -252689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A Serv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2409840" y="4511520"/>
            <a:ext cx="205740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ustom Chassis/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4"/>
          <p:cNvSpPr/>
          <p:nvPr/>
        </p:nvSpPr>
        <p:spPr>
          <a:xfrm>
            <a:off x="2220840" y="4105440"/>
            <a:ext cx="285840" cy="1195200"/>
          </a:xfrm>
          <a:prstGeom prst="upDownArrow">
            <a:avLst>
              <a:gd name="adj1" fmla="val 50000"/>
              <a:gd name="adj2" fmla="val 8324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5"/>
          <p:cNvSpPr/>
          <p:nvPr/>
        </p:nvSpPr>
        <p:spPr>
          <a:xfrm>
            <a:off x="1305000" y="5286240"/>
            <a:ext cx="2057400" cy="825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6"/>
          <p:cNvSpPr/>
          <p:nvPr/>
        </p:nvSpPr>
        <p:spPr>
          <a:xfrm>
            <a:off x="4666680" y="5827680"/>
            <a:ext cx="19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AEA4-A164-4C97-A903-EF8271E48E2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en to use cli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92280" y="1123560"/>
            <a:ext cx="819144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interact with the contro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ny already exist – MEDM, ALH, Strip Tool, archiver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data analysis or visu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ervisory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.g. to manage an accel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"/>
          <p:cNvPicPr/>
          <p:nvPr/>
        </p:nvPicPr>
        <p:blipFill>
          <a:blip r:embed="rId1"/>
          <a:stretch/>
        </p:blipFill>
        <p:spPr>
          <a:xfrm>
            <a:off x="2463840" y="2948040"/>
            <a:ext cx="42894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4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E9CC-5868-4EBE-8D2F-58D7C1F18E2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How fast is EPICS?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99840" y="1116000"/>
            <a:ext cx="7581960" cy="16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n be fast or slow, it depends how you use i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e the correct tool for the job; Database, sequencer, custom code (ioc) or custom code (cli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ltimately speed depends upon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me benchmarks*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844560" y="2770200"/>
          <a:ext cx="6132600" cy="2286000"/>
        </p:xfrm>
        <a:graphic>
          <a:graphicData uri="http://schemas.openxmlformats.org/drawingml/2006/table">
            <a:tbl>
              <a:tblPr/>
              <a:tblGrid>
                <a:gridCol w="1162080"/>
                <a:gridCol w="882720"/>
                <a:gridCol w="1019160"/>
                <a:gridCol w="1022400"/>
                <a:gridCol w="1022040"/>
                <a:gridCol w="1024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ch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c/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%C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VME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x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3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VME 2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x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PC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VME5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x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PC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00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3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4G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Rectangle 109"/>
          <p:cNvSpPr/>
          <p:nvPr/>
        </p:nvSpPr>
        <p:spPr>
          <a:xfrm>
            <a:off x="760320" y="5442120"/>
            <a:ext cx="72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base design and periodic scanning effect </a:t>
            </a:r>
            <a:r>
              <a:rPr b="1" i="1" lang="en-US" sz="1800" spc="-1" strike="noStrike">
                <a:solidFill>
                  <a:srgbClr val="ed181e"/>
                </a:solidFill>
                <a:latin typeface="Arial"/>
                <a:ea typeface="宋体"/>
              </a:rPr>
              <a:t>appar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yste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0"/>
          <p:cNvSpPr/>
          <p:nvPr/>
        </p:nvSpPr>
        <p:spPr>
          <a:xfrm>
            <a:off x="401040" y="5051520"/>
            <a:ext cx="52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*Benchmark figures courtesy of Steve Hunt (P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**Extrapolated from performance figures provided by L.Hoff, B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1A9C-E23E-444A-980B-01AA4D0B6BFB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728640" y="1176480"/>
            <a:ext cx="7323120" cy="469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1600200" y="1547640"/>
            <a:ext cx="5707080" cy="414036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pparent performanc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5702400" y="2987640"/>
            <a:ext cx="1481040" cy="693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5695920" y="266076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inary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5702400" y="299556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1:water:chillerC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3676680" y="2844720"/>
            <a:ext cx="1557360" cy="84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3662280" y="2541600"/>
            <a:ext cx="15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3675240" y="283536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1:water:tempCh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3668760" y="3979800"/>
            <a:ext cx="15526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AL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 (A+B)/2 ) &gt;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3666960" y="3695760"/>
            <a:ext cx="15591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3670200" y="4260960"/>
            <a:ext cx="1555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10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1808280" y="1674720"/>
            <a:ext cx="13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og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1814400" y="1982880"/>
            <a:ext cx="1303560" cy="693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1830240" y="20001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1:water:tem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1805040" y="2681280"/>
            <a:ext cx="1312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U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deg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2608200" y="2395440"/>
            <a:ext cx="509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1811160" y="2394000"/>
            <a:ext cx="482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2" descr=""/>
          <p:cNvPicPr/>
          <p:nvPr/>
        </p:nvPicPr>
        <p:blipFill>
          <a:blip r:embed="rId1"/>
          <a:stretch/>
        </p:blipFill>
        <p:spPr>
          <a:xfrm>
            <a:off x="1031760" y="3973680"/>
            <a:ext cx="349200" cy="1574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3" descr=""/>
          <p:cNvPicPr/>
          <p:nvPr/>
        </p:nvPicPr>
        <p:blipFill>
          <a:blip r:embed="rId2"/>
          <a:stretch/>
        </p:blipFill>
        <p:spPr>
          <a:xfrm>
            <a:off x="7469280" y="2703600"/>
            <a:ext cx="349200" cy="15746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4" descr=""/>
          <p:cNvPicPr/>
          <p:nvPr/>
        </p:nvPicPr>
        <p:blipFill>
          <a:blip r:embed="rId3"/>
          <a:stretch/>
        </p:blipFill>
        <p:spPr>
          <a:xfrm>
            <a:off x="1049400" y="1720800"/>
            <a:ext cx="349200" cy="15750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25"/>
          <p:cNvSpPr/>
          <p:nvPr/>
        </p:nvSpPr>
        <p:spPr>
          <a:xfrm>
            <a:off x="1814400" y="4923000"/>
            <a:ext cx="1312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U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deg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2617920" y="4637160"/>
            <a:ext cx="509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1820880" y="4627440"/>
            <a:ext cx="482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8" descr="fridge"/>
          <p:cNvPicPr/>
          <p:nvPr/>
        </p:nvPicPr>
        <p:blipFill>
          <a:blip r:embed="rId4"/>
          <a:stretch/>
        </p:blipFill>
        <p:spPr>
          <a:xfrm>
            <a:off x="8185320" y="2913120"/>
            <a:ext cx="852480" cy="857160"/>
          </a:xfrm>
          <a:prstGeom prst="rect">
            <a:avLst/>
          </a:prstGeom>
          <a:ln w="0">
            <a:noFill/>
          </a:ln>
        </p:spPr>
      </p:pic>
      <p:sp>
        <p:nvSpPr>
          <p:cNvPr id="608" name="Line 29"/>
          <p:cNvSpPr/>
          <p:nvPr/>
        </p:nvSpPr>
        <p:spPr>
          <a:xfrm>
            <a:off x="542880" y="250668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0"/>
          <p:cNvSpPr/>
          <p:nvPr/>
        </p:nvSpPr>
        <p:spPr>
          <a:xfrm>
            <a:off x="1393920" y="2517840"/>
            <a:ext cx="41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1"/>
          <p:cNvSpPr/>
          <p:nvPr/>
        </p:nvSpPr>
        <p:spPr>
          <a:xfrm flipV="1">
            <a:off x="525600" y="4807080"/>
            <a:ext cx="5061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2"/>
          <p:cNvSpPr/>
          <p:nvPr/>
        </p:nvSpPr>
        <p:spPr>
          <a:xfrm>
            <a:off x="7194600" y="3489480"/>
            <a:ext cx="261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3676680" y="3400560"/>
            <a:ext cx="549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3672000" y="3121200"/>
            <a:ext cx="557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70"/>
          <p:cNvGrpSpPr/>
          <p:nvPr/>
        </p:nvGrpSpPr>
        <p:grpSpPr>
          <a:xfrm>
            <a:off x="3111480" y="2517840"/>
            <a:ext cx="552600" cy="758880"/>
            <a:chOff x="3111480" y="2517840"/>
            <a:chExt cx="552600" cy="758880"/>
          </a:xfrm>
        </p:grpSpPr>
        <p:sp>
          <p:nvSpPr>
            <p:cNvPr id="615" name="Line 35"/>
            <p:cNvSpPr/>
            <p:nvPr/>
          </p:nvSpPr>
          <p:spPr>
            <a:xfrm>
              <a:off x="3111480" y="2517840"/>
              <a:ext cx="29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36"/>
            <p:cNvSpPr/>
            <p:nvPr/>
          </p:nvSpPr>
          <p:spPr>
            <a:xfrm>
              <a:off x="3400560" y="2525760"/>
              <a:ext cx="1440" cy="74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37"/>
            <p:cNvSpPr/>
            <p:nvPr/>
          </p:nvSpPr>
          <p:spPr>
            <a:xfrm>
              <a:off x="3400560" y="3276720"/>
              <a:ext cx="26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71"/>
          <p:cNvGrpSpPr/>
          <p:nvPr/>
        </p:nvGrpSpPr>
        <p:grpSpPr>
          <a:xfrm>
            <a:off x="3114720" y="3548160"/>
            <a:ext cx="549360" cy="1226880"/>
            <a:chOff x="3114720" y="3548160"/>
            <a:chExt cx="549360" cy="1226880"/>
          </a:xfrm>
        </p:grpSpPr>
        <p:sp>
          <p:nvSpPr>
            <p:cNvPr id="619" name="Line 38"/>
            <p:cNvSpPr/>
            <p:nvPr/>
          </p:nvSpPr>
          <p:spPr>
            <a:xfrm>
              <a:off x="3400560" y="3548160"/>
              <a:ext cx="263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9"/>
            <p:cNvSpPr/>
            <p:nvPr/>
          </p:nvSpPr>
          <p:spPr>
            <a:xfrm>
              <a:off x="3114720" y="4775040"/>
              <a:ext cx="29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0"/>
            <p:cNvSpPr/>
            <p:nvPr/>
          </p:nvSpPr>
          <p:spPr>
            <a:xfrm>
              <a:off x="3400560" y="3548160"/>
              <a:ext cx="0" cy="12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41"/>
          <p:cNvSpPr/>
          <p:nvPr/>
        </p:nvSpPr>
        <p:spPr>
          <a:xfrm>
            <a:off x="4711680" y="3400560"/>
            <a:ext cx="509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2"/>
          <p:cNvSpPr/>
          <p:nvPr/>
        </p:nvSpPr>
        <p:spPr>
          <a:xfrm>
            <a:off x="5700600" y="3392640"/>
            <a:ext cx="509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3"/>
          <p:cNvSpPr/>
          <p:nvPr/>
        </p:nvSpPr>
        <p:spPr>
          <a:xfrm>
            <a:off x="6621480" y="3392640"/>
            <a:ext cx="552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4"/>
          <p:cNvSpPr/>
          <p:nvPr/>
        </p:nvSpPr>
        <p:spPr>
          <a:xfrm>
            <a:off x="7815240" y="3479760"/>
            <a:ext cx="46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5"/>
          <p:cNvSpPr/>
          <p:nvPr/>
        </p:nvSpPr>
        <p:spPr>
          <a:xfrm>
            <a:off x="5224320" y="3548160"/>
            <a:ext cx="482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6"/>
          <p:cNvSpPr/>
          <p:nvPr/>
        </p:nvSpPr>
        <p:spPr>
          <a:xfrm>
            <a:off x="3984480" y="11700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7"/>
          <p:cNvSpPr/>
          <p:nvPr/>
        </p:nvSpPr>
        <p:spPr>
          <a:xfrm>
            <a:off x="3718440" y="15256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45360" y="14079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28080" y="36608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7288920" y="240336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宋体"/>
              </a:rPr>
              <a:t>Binary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8211960" y="3765600"/>
            <a:ext cx="7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t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8209080" y="394344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hi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3"/>
          <p:cNvSpPr/>
          <p:nvPr/>
        </p:nvSpPr>
        <p:spPr>
          <a:xfrm>
            <a:off x="1830240" y="3900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og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1824120" y="4224240"/>
            <a:ext cx="1303200" cy="693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5"/>
          <p:cNvSpPr/>
          <p:nvPr/>
        </p:nvSpPr>
        <p:spPr>
          <a:xfrm>
            <a:off x="1830240" y="42321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1:water:tem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56"/>
          <p:cNvSpPr/>
          <p:nvPr/>
        </p:nvSpPr>
        <p:spPr>
          <a:xfrm>
            <a:off x="1395360" y="481176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9"/>
          <p:cNvGrpSpPr/>
          <p:nvPr/>
        </p:nvGrpSpPr>
        <p:grpSpPr>
          <a:xfrm>
            <a:off x="0" y="4417920"/>
            <a:ext cx="730080" cy="1078200"/>
            <a:chOff x="0" y="4417920"/>
            <a:chExt cx="730080" cy="1078200"/>
          </a:xfrm>
        </p:grpSpPr>
        <p:pic>
          <p:nvPicPr>
            <p:cNvPr id="639" name="Picture 60" descr="thermometer2"/>
            <p:cNvPicPr/>
            <p:nvPr/>
          </p:nvPicPr>
          <p:blipFill>
            <a:blip r:embed="rId5"/>
            <a:stretch/>
          </p:blipFill>
          <p:spPr>
            <a:xfrm>
              <a:off x="225360" y="4417920"/>
              <a:ext cx="3222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 Box 61"/>
            <p:cNvSpPr/>
            <p:nvPr/>
          </p:nvSpPr>
          <p:spPr>
            <a:xfrm>
              <a:off x="0" y="5219640"/>
              <a:ext cx="7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62"/>
            <p:cNvSpPr/>
            <p:nvPr/>
          </p:nvSpPr>
          <p:spPr>
            <a:xfrm>
              <a:off x="23760" y="5027760"/>
              <a:ext cx="7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n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63"/>
          <p:cNvGrpSpPr/>
          <p:nvPr/>
        </p:nvGrpSpPr>
        <p:grpSpPr>
          <a:xfrm>
            <a:off x="15840" y="1919160"/>
            <a:ext cx="714240" cy="1688040"/>
            <a:chOff x="15840" y="1919160"/>
            <a:chExt cx="714240" cy="1688040"/>
          </a:xfrm>
        </p:grpSpPr>
        <p:pic>
          <p:nvPicPr>
            <p:cNvPr id="643" name="Picture 64" descr="thermometer"/>
            <p:cNvPicPr/>
            <p:nvPr/>
          </p:nvPicPr>
          <p:blipFill>
            <a:blip r:embed="rId6"/>
            <a:stretch/>
          </p:blipFill>
          <p:spPr>
            <a:xfrm>
              <a:off x="264960" y="1919160"/>
              <a:ext cx="28116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 Box 65"/>
            <p:cNvSpPr/>
            <p:nvPr/>
          </p:nvSpPr>
          <p:spPr>
            <a:xfrm>
              <a:off x="23760" y="3138480"/>
              <a:ext cx="7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n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66"/>
            <p:cNvSpPr/>
            <p:nvPr/>
          </p:nvSpPr>
          <p:spPr>
            <a:xfrm>
              <a:off x="15840" y="3330720"/>
              <a:ext cx="7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 Box 67"/>
          <p:cNvSpPr/>
          <p:nvPr/>
        </p:nvSpPr>
        <p:spPr>
          <a:xfrm>
            <a:off x="3672000" y="3693960"/>
            <a:ext cx="15588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8"/>
          <p:cNvSpPr/>
          <p:nvPr/>
        </p:nvSpPr>
        <p:spPr>
          <a:xfrm>
            <a:off x="5689440" y="3683160"/>
            <a:ext cx="14986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10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9"/>
          <p:cNvSpPr/>
          <p:nvPr/>
        </p:nvSpPr>
        <p:spPr>
          <a:xfrm>
            <a:off x="3665520" y="3695760"/>
            <a:ext cx="15588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2"/>
          <p:cNvSpPr/>
          <p:nvPr/>
        </p:nvSpPr>
        <p:spPr>
          <a:xfrm>
            <a:off x="-246240" y="4078440"/>
            <a:ext cx="126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3"/>
          <p:cNvSpPr/>
          <p:nvPr/>
        </p:nvSpPr>
        <p:spPr>
          <a:xfrm>
            <a:off x="-225720" y="1633680"/>
            <a:ext cx="126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82"/>
          <p:cNvGrpSpPr/>
          <p:nvPr/>
        </p:nvGrpSpPr>
        <p:grpSpPr>
          <a:xfrm>
            <a:off x="3129120" y="2413080"/>
            <a:ext cx="528480" cy="790560"/>
            <a:chOff x="3129120" y="2413080"/>
            <a:chExt cx="528480" cy="790560"/>
          </a:xfrm>
        </p:grpSpPr>
        <p:sp>
          <p:nvSpPr>
            <p:cNvPr id="652" name="Line 75"/>
            <p:cNvSpPr/>
            <p:nvPr/>
          </p:nvSpPr>
          <p:spPr>
            <a:xfrm flipH="1">
              <a:off x="3511440" y="3197160"/>
              <a:ext cx="146160" cy="6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7"/>
            <p:cNvSpPr/>
            <p:nvPr/>
          </p:nvSpPr>
          <p:spPr>
            <a:xfrm flipV="1">
              <a:off x="3524400" y="2418840"/>
              <a:ext cx="0" cy="7844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8"/>
            <p:cNvSpPr/>
            <p:nvPr/>
          </p:nvSpPr>
          <p:spPr>
            <a:xfrm flipH="1">
              <a:off x="3129120" y="24130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81"/>
          <p:cNvGrpSpPr/>
          <p:nvPr/>
        </p:nvGrpSpPr>
        <p:grpSpPr>
          <a:xfrm>
            <a:off x="3142800" y="3621240"/>
            <a:ext cx="513360" cy="1233360"/>
            <a:chOff x="3142800" y="3621240"/>
            <a:chExt cx="513360" cy="1233360"/>
          </a:xfrm>
        </p:grpSpPr>
        <p:sp>
          <p:nvSpPr>
            <p:cNvPr id="656" name="Line 76"/>
            <p:cNvSpPr/>
            <p:nvPr/>
          </p:nvSpPr>
          <p:spPr>
            <a:xfrm flipH="1">
              <a:off x="3510000" y="3621240"/>
              <a:ext cx="146160" cy="61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79"/>
            <p:cNvSpPr/>
            <p:nvPr/>
          </p:nvSpPr>
          <p:spPr>
            <a:xfrm flipH="1">
              <a:off x="3142800" y="48546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0"/>
            <p:cNvSpPr/>
            <p:nvPr/>
          </p:nvSpPr>
          <p:spPr>
            <a:xfrm flipV="1">
              <a:off x="3530520" y="3632040"/>
              <a:ext cx="0" cy="1208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Line 83"/>
          <p:cNvSpPr/>
          <p:nvPr/>
        </p:nvSpPr>
        <p:spPr>
          <a:xfrm flipV="1">
            <a:off x="5237280" y="3306600"/>
            <a:ext cx="461880" cy="6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85"/>
          <p:cNvSpPr/>
          <p:nvPr/>
        </p:nvSpPr>
        <p:spPr>
          <a:xfrm>
            <a:off x="3724200" y="1954080"/>
            <a:ext cx="914400" cy="520920"/>
          </a:xfrm>
          <a:prstGeom prst="wedgeRectCallout">
            <a:avLst>
              <a:gd name="adj1" fmla="val -71009"/>
              <a:gd name="adj2" fmla="val 100305"/>
            </a:avLst>
          </a:prstGeom>
          <a:solidFill>
            <a:srgbClr val="ffbf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cess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86"/>
          <p:cNvSpPr/>
          <p:nvPr/>
        </p:nvSpPr>
        <p:spPr>
          <a:xfrm>
            <a:off x="3862440" y="4894200"/>
            <a:ext cx="914400" cy="520920"/>
          </a:xfrm>
          <a:prstGeom prst="wedgeRectCallout">
            <a:avLst>
              <a:gd name="adj1" fmla="val -84722"/>
              <a:gd name="adj2" fmla="val -99388"/>
            </a:avLst>
          </a:prstGeom>
          <a:solidFill>
            <a:srgbClr val="ffbf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cess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87"/>
          <p:cNvSpPr/>
          <p:nvPr/>
        </p:nvSpPr>
        <p:spPr>
          <a:xfrm>
            <a:off x="5383080" y="1851120"/>
            <a:ext cx="914400" cy="520560"/>
          </a:xfrm>
          <a:prstGeom prst="wedgeRectCallout">
            <a:avLst>
              <a:gd name="adj1" fmla="val -39754"/>
              <a:gd name="adj2" fmla="val 230791"/>
            </a:avLst>
          </a:prstGeom>
          <a:solidFill>
            <a:srgbClr val="ffbf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cess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88"/>
          <p:cNvSpPr/>
          <p:nvPr/>
        </p:nvSpPr>
        <p:spPr>
          <a:xfrm>
            <a:off x="2712960" y="3073320"/>
            <a:ext cx="403200" cy="295200"/>
          </a:xfrm>
          <a:prstGeom prst="wedgeRectCallout">
            <a:avLst>
              <a:gd name="adj1" fmla="val 118898"/>
              <a:gd name="adj2" fmla="val -37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9"/>
          <p:cNvSpPr/>
          <p:nvPr/>
        </p:nvSpPr>
        <p:spPr>
          <a:xfrm>
            <a:off x="2719440" y="3568680"/>
            <a:ext cx="403200" cy="295200"/>
          </a:xfrm>
          <a:prstGeom prst="wedgeRectCallout">
            <a:avLst>
              <a:gd name="adj1" fmla="val 120472"/>
              <a:gd name="adj2" fmla="val 591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90"/>
          <p:cNvSpPr/>
          <p:nvPr/>
        </p:nvSpPr>
        <p:spPr>
          <a:xfrm>
            <a:off x="5432400" y="4197240"/>
            <a:ext cx="403200" cy="295560"/>
          </a:xfrm>
          <a:prstGeom prst="wedgeRectCallout">
            <a:avLst>
              <a:gd name="adj1" fmla="val -53541"/>
              <a:gd name="adj2" fmla="val -2731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1"/>
          <p:cNvSpPr/>
          <p:nvPr/>
        </p:nvSpPr>
        <p:spPr>
          <a:xfrm>
            <a:off x="8007480" y="2562120"/>
            <a:ext cx="11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92"/>
          <p:cNvSpPr/>
          <p:nvPr/>
        </p:nvSpPr>
        <p:spPr>
          <a:xfrm>
            <a:off x="5438880" y="4208400"/>
            <a:ext cx="403200" cy="295200"/>
          </a:xfrm>
          <a:prstGeom prst="wedgeRectCallout">
            <a:avLst>
              <a:gd name="adj1" fmla="val -53148"/>
              <a:gd name="adj2" fmla="val -2752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7999200" y="2567160"/>
            <a:ext cx="122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 flipH="1" flipV="1">
            <a:off x="5229000" y="3313080"/>
            <a:ext cx="461880" cy="6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9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2168-5AB7-4214-8F68-02B3ADF16E6F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e EPICS web sit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22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entral site for EPICS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 Cl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ice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ch-tal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aps.anl.gov/e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5BD8-43C4-4705-ADB8-AE7C0C54FE2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stalling the virtual LINAC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4960" y="1026720"/>
            <a:ext cx="818388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ux, Solaris, Mac OS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 the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unt the CD (if it’s not automoun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un the setup.sh script from the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7" descr="linuxinstaller"/>
          <p:cNvPicPr/>
          <p:nvPr/>
        </p:nvPicPr>
        <p:blipFill>
          <a:blip r:embed="rId1"/>
          <a:stretch/>
        </p:blipFill>
        <p:spPr>
          <a:xfrm>
            <a:off x="2979720" y="2536920"/>
            <a:ext cx="3573360" cy="239868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9"/>
          <p:cNvSpPr/>
          <p:nvPr/>
        </p:nvSpPr>
        <p:spPr>
          <a:xfrm>
            <a:off x="282600" y="5075280"/>
            <a:ext cx="918576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125000"/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 to your install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125000"/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un 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tart.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 to start both medm and the virtual LINAC I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125000"/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 start things individually using the scripts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3F84-4601-424A-ACE1-AF6AFC1E687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stalling the virtual LINAC - Window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60280" y="1042920"/>
            <a:ext cx="819144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: You will need Exceed V7.0 or later install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 the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autorun is enabled you will see a screen with instructions, if not open 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IN32/README.H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 (on the CD) in your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5334120" y="2468520"/>
            <a:ext cx="3568680" cy="12016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5" descr=""/>
          <p:cNvPicPr/>
          <p:nvPr/>
        </p:nvPicPr>
        <p:blipFill>
          <a:blip r:embed="rId2"/>
          <a:stretch/>
        </p:blipFill>
        <p:spPr>
          <a:xfrm>
            <a:off x="6091200" y="3211560"/>
            <a:ext cx="2190960" cy="18032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6"/>
          <p:cNvSpPr/>
          <p:nvPr/>
        </p:nvSpPr>
        <p:spPr>
          <a:xfrm>
            <a:off x="246240" y="5089680"/>
            <a:ext cx="8456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un 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EDM Virtual Lin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 to start the MEDM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un 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tart Virtual Lin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start the virtual LINAC I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8"/>
          <p:cNvSpPr/>
          <p:nvPr/>
        </p:nvSpPr>
        <p:spPr>
          <a:xfrm>
            <a:off x="262080" y="2455920"/>
            <a:ext cx="541944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all the Extensions by running 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IN32/EPICSEX39ISETUP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 from the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all the Virtual LINAC by executing 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IN32/VIRTUALLINACSETUP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 from the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gram icons will appear on the desktop and star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75A5-1B80-4134-9D78-6200F87C2CAB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f You Don’t Have the CD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76440" y="1314360"/>
            <a:ext cx="8029440" cy="19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D image and individual OS versions can be obtained from http://www.aps.anl.gov/epics/download/examples/index.ph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member, the CD image is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file. You may need to use a command such as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te CD from image f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” on your Windows CD creation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FF9B-8019-4058-97AF-480046A2F9AE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Revie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443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put Output Controllers are a fundamental part of an EPICS contro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atabase is the primary means of telling an IOC what to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EPICS database is composed of records configured to perform an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nel Access is a means for other computers to communicate with record fie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quencer programs can be used to sequence complex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ice support software allows records to interact with hardware inputs and outpu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PICS is fast and efficient but can appear slow if used without consid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26CF-4F26-4B28-B5E3-2DD65CCCCAAF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Acknowledg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rew Johnson (APS-Contro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ob Dalesio (LA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b Kerstiens (LA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zelle Wright (LA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4EE8-6662-48E4-BF93-01694B9CC051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troducing the IOC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7200" y="1087560"/>
            <a:ext cx="819144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tp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computer running software called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OC C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mputer can b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ME based, running vxWorks (only choice until Release 3.14) or R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C running Windows, Linux, R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le running O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NIX Workstation running So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ually has Input and/or Output devices atta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EPICS control system must consist of at least one Channel Access Server (usually an IO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IOC has one or mo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tab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loaded. The database tells it what to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30" descr="dj_l_quy[1]"/>
          <p:cNvPicPr/>
          <p:nvPr/>
        </p:nvPicPr>
        <p:blipFill>
          <a:blip r:embed="rId1"/>
          <a:stretch/>
        </p:blipFill>
        <p:spPr>
          <a:xfrm>
            <a:off x="139680" y="1050840"/>
            <a:ext cx="64296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019D-906B-4183-AA44-9645B5716A18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side an IOC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1373040" y="1779480"/>
            <a:ext cx="541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353960" y="3809880"/>
            <a:ext cx="2930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940040" y="2378160"/>
            <a:ext cx="5095800" cy="24796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390680" y="1378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4570560" y="177336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 flipH="1">
            <a:off x="3970440" y="2797200"/>
            <a:ext cx="296640" cy="38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5765760" y="2797200"/>
            <a:ext cx="238320" cy="374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101680" y="5475240"/>
            <a:ext cx="48168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/O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71880" y="4094280"/>
            <a:ext cx="0" cy="347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938240" y="23842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204840" y="949320"/>
            <a:ext cx="70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major software components of an IOC (IOC C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4325760" y="487368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2868480" y="3191040"/>
            <a:ext cx="2219400" cy="8942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299200" y="3182760"/>
            <a:ext cx="1592280" cy="398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que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2665440" y="4440240"/>
            <a:ext cx="2651040" cy="398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828880" y="2378160"/>
            <a:ext cx="3411720" cy="3988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ne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92F5-517D-4FE9-8F82-DD076C81374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6013440" y="4089240"/>
            <a:ext cx="2647800" cy="13971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hannel Acces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0040" y="1035000"/>
            <a:ext cx="4362480" cy="515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ows other programs (CA Clients) to see and change values of Process Variables in an IOC (CA Serv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 Clients m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ut (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et (re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of Process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OCs are both CA clients and CA servers. They can interact with data in other IO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CA Client can connect to many ser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CA Server may serve many cl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very efficient an reliable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a2hmsi2a[1]"/>
          <p:cNvPicPr/>
          <p:nvPr/>
        </p:nvPicPr>
        <p:blipFill>
          <a:blip r:embed="rId1"/>
          <a:stretch/>
        </p:blipFill>
        <p:spPr>
          <a:xfrm>
            <a:off x="7578720" y="4156200"/>
            <a:ext cx="1038240" cy="12556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21"/>
          <p:cNvGrpSpPr/>
          <p:nvPr/>
        </p:nvGrpSpPr>
        <p:grpSpPr>
          <a:xfrm>
            <a:off x="4548960" y="1395360"/>
            <a:ext cx="3153600" cy="1398600"/>
            <a:chOff x="4548960" y="1395360"/>
            <a:chExt cx="3153600" cy="1398600"/>
          </a:xfrm>
        </p:grpSpPr>
        <p:sp>
          <p:nvSpPr>
            <p:cNvPr id="192" name="Rectangle 16"/>
            <p:cNvSpPr/>
            <p:nvPr/>
          </p:nvSpPr>
          <p:spPr>
            <a:xfrm>
              <a:off x="4933800" y="1397160"/>
              <a:ext cx="2768760" cy="1396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9"/>
            <p:cNvGrpSpPr/>
            <p:nvPr/>
          </p:nvGrpSpPr>
          <p:grpSpPr>
            <a:xfrm>
              <a:off x="5829120" y="1432080"/>
              <a:ext cx="1816200" cy="1299960"/>
              <a:chOff x="5829120" y="1432080"/>
              <a:chExt cx="1816200" cy="1299960"/>
            </a:xfrm>
          </p:grpSpPr>
          <p:sp>
            <p:nvSpPr>
              <p:cNvPr id="194" name="Rectangle 18"/>
              <p:cNvSpPr/>
              <p:nvPr/>
            </p:nvSpPr>
            <p:spPr>
              <a:xfrm>
                <a:off x="5829120" y="1441440"/>
                <a:ext cx="1816200" cy="128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Picture 11" descr="00eyjxuz[1]"/>
              <p:cNvPicPr/>
              <p:nvPr/>
            </p:nvPicPr>
            <p:blipFill>
              <a:blip r:embed="rId2"/>
              <a:stretch/>
            </p:blipFill>
            <p:spPr>
              <a:xfrm>
                <a:off x="5829120" y="1432080"/>
                <a:ext cx="1814400" cy="1299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6" name="Text Box 15"/>
            <p:cNvSpPr/>
            <p:nvPr/>
          </p:nvSpPr>
          <p:spPr>
            <a:xfrm>
              <a:off x="4548960" y="139536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A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20"/>
          <p:cNvSpPr/>
          <p:nvPr/>
        </p:nvSpPr>
        <p:spPr>
          <a:xfrm>
            <a:off x="5668920" y="4100400"/>
            <a:ext cx="168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4857840" y="3416400"/>
            <a:ext cx="399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6222960" y="28004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7194600" y="3422520"/>
            <a:ext cx="0" cy="66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4599720" y="1090440"/>
            <a:ext cx="18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5677920" y="3776760"/>
            <a:ext cx="11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7612200" y="3103560"/>
            <a:ext cx="15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38B5-D58D-4297-AC8E-CF80F244E066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side an IOC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1373040" y="1779480"/>
            <a:ext cx="5410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353960" y="3809880"/>
            <a:ext cx="2930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940040" y="2378160"/>
            <a:ext cx="5095800" cy="247968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828880" y="2378160"/>
            <a:ext cx="34117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ne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390680" y="1378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4570560" y="177336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5299200" y="3182760"/>
            <a:ext cx="159228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que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3970440" y="2797200"/>
            <a:ext cx="296640" cy="38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765760" y="2797200"/>
            <a:ext cx="238320" cy="374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2665440" y="4440240"/>
            <a:ext cx="26510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2101680" y="5475240"/>
            <a:ext cx="48168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/O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3971880" y="4094280"/>
            <a:ext cx="0" cy="347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1938240" y="23842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04840" y="949320"/>
            <a:ext cx="70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major software components of an IOC (IOC C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4325760" y="487368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68480" y="3191040"/>
            <a:ext cx="2219400" cy="8942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D90B-4967-4845-B05E-896881FB35B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PICS Databases – What are they for?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8040" y="1460160"/>
            <a:ext cx="45608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face to process instr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tribute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vide external access to all process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common, proven, objects (records) to collect, process and distribut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vide a common toolkit for creating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storring640"/>
          <p:cNvPicPr/>
          <p:nvPr/>
        </p:nvPicPr>
        <p:blipFill>
          <a:blip r:embed="rId1"/>
          <a:stretch/>
        </p:blipFill>
        <p:spPr>
          <a:xfrm>
            <a:off x="5200560" y="102240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zmqhw0bg[1]"/>
          <p:cNvPicPr/>
          <p:nvPr/>
        </p:nvPicPr>
        <p:blipFill>
          <a:blip r:embed="rId2"/>
          <a:stretch/>
        </p:blipFill>
        <p:spPr>
          <a:xfrm>
            <a:off x="4635360" y="4230720"/>
            <a:ext cx="2610000" cy="1919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epicsUser"/>
          <p:cNvPicPr/>
          <p:nvPr/>
        </p:nvPicPr>
        <p:blipFill>
          <a:blip r:embed="rId3"/>
          <a:stretch/>
        </p:blipFill>
        <p:spPr>
          <a:xfrm>
            <a:off x="5291280" y="1765440"/>
            <a:ext cx="327024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500" fill="hold"/>
                                        <p:tgtEl>
                                          <p:spTgt spid="22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500" fill="hold"/>
                                        <p:tgtEl>
                                          <p:spTgt spid="22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A3FB-6507-442F-83D8-86734044AAF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at are records?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record is an object wi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uniqu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erties (fields) that contain information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bility to perform actions on tha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77880" y="2967120"/>
            <a:ext cx="78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personnel record in a relational database has a name, and fields cont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3029040" y="3865680"/>
            <a:ext cx="3255840" cy="1968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697480" y="4027320"/>
            <a:ext cx="37472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181e"/>
                </a:solidFill>
                <a:latin typeface="Courier New"/>
                <a:ea typeface="宋体"/>
              </a:rPr>
              <a:t>XYZ12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mployee: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宋体"/>
              </a:rPr>
              <a:t>James 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adge # :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宋体"/>
              </a:rPr>
              <a:t>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ress :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宋体"/>
              </a:rPr>
              <a:t>Whitehall, Lon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alary  :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宋体"/>
              </a:rPr>
              <a:t>£70070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75920" y="4011480"/>
            <a:ext cx="248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nique record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3035160" y="4354560"/>
            <a:ext cx="324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2662200" y="419256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541880" y="4726080"/>
            <a:ext cx="13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V="1">
            <a:off x="2508120" y="4608000"/>
            <a:ext cx="746280" cy="20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V="1">
            <a:off x="2502000" y="4879800"/>
            <a:ext cx="547560" cy="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6506280" y="4675320"/>
            <a:ext cx="124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H="1" flipV="1">
            <a:off x="5338800" y="4529160"/>
            <a:ext cx="154296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6"/>
          <p:cNvSpPr/>
          <p:nvPr/>
        </p:nvSpPr>
        <p:spPr>
          <a:xfrm flipH="1">
            <a:off x="4492440" y="4836960"/>
            <a:ext cx="239868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6035760" y="4886280"/>
            <a:ext cx="846000" cy="2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5084280" y="4923000"/>
            <a:ext cx="1817640" cy="59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2479680" y="5003640"/>
            <a:ext cx="642960" cy="196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2457360" y="5010120"/>
            <a:ext cx="641520" cy="48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22:01:39Z</dcterms:created>
  <dc:creator>John Maclean</dc:creator>
  <dc:description/>
  <dc:language>en-US</dc:language>
  <cp:lastModifiedBy>ywh</cp:lastModifiedBy>
  <cp:lastPrinted>2003-04-23T14:44:46Z</cp:lastPrinted>
  <dcterms:modified xsi:type="dcterms:W3CDTF">2011-11-02T15:34:19Z</dcterms:modified>
  <cp:revision>45</cp:revision>
  <dc:subject/>
  <dc:title>Low Cost IOC</dc:title>
</cp:coreProperties>
</file>