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4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7.gif" ContentType="image/gi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A894-EA48-418D-9EEE-6EF96EA5B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5263-3A45-4CF6-8892-377AC9555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9150-BDCA-46A9-8484-7CD3BFAE2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B4E7-7186-4C44-9733-3CA0D5DF9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9467-26D0-4F6F-9AB7-883B6DA3C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5FDA-7CF6-40D0-B7A8-572873BC7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570B-8FE7-4702-92E6-B14AA8792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98E9-C0B9-4412-A1D4-35957A52F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9C56-2BEE-4212-94FF-9FB935C71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4796-1266-4BB3-B3E6-68C6149D7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2F69-96AA-4AE3-8D2D-4C3C24CE4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217B-7196-47C7-A994-391FF3F81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D05-44EE-4C15-A1E9-21BE85AB01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67600" y="6282360"/>
            <a:ext cx="11350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13760" y="5977080"/>
            <a:ext cx="549360" cy="550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236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57000" y="1629720"/>
            <a:ext cx="64515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57000" y="1629720"/>
            <a:ext cx="64515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Getting Started with EPICS Lecture Series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57360" y="2952360"/>
            <a:ext cx="64612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Notation Language and the Sequenc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65360" y="4127400"/>
            <a:ext cx="64612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ohn Ma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1/09/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NL: General Structure and Syntax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5638680" cy="51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progr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gram_na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ate_set_name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ate_name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ent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tion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whe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ev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tion_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_stat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whe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ev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tion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t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ate_name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NL: General Structure and Syntax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958680"/>
            <a:ext cx="8420400" cy="505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rogra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contains many state sets. The program 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32000"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as the handle to the sequencer  manager  for state  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e set becomes a task in the vxWorks environme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e is an area where the task  waits for ev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ed task waits until one of the events occurs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hecks to see which it should execute. The first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in a state set is the initial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lag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e specific op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fine the events for which this state wai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st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fine the  new state after the actions are tak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entr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se actions on entry to this state from another stat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-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ill do these actions even if it en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me st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se actions before exiting this state to another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will do these actions even if it exits to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ate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91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 before a state set and have a scope of the entire progr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I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S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L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D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Strname;   /* currently limited to 40 characters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Iname[array_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Sname[array_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Lname[array_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Cname[array_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Fname[array_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ayDname[array_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030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clarations - Assign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135080"/>
            <a:ext cx="88390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 to channel access server chan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pressu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pressure to “CouplerPressureRB1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pressure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pressures to {“CouplerPressureRB1”,  ”CouplerPressureRB2”, ” CouplerPressureRB3”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se these channel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uses, they must be monito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itor pressu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itor press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written like this to aid read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pressure; assign pressure to “PressureRB1”; monitor pressur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5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3176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clarations – Event Flag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ing Event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for state sets to set, clear and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fl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_flag_nam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 monitor is set when PV changes (posts a moni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fl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ag_moni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n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ssure   flag_monitor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352680" y="4157640"/>
            <a:ext cx="24163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vent is the condition on which statements following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re executed and a state transition is m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ev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of a variable that is being monito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(achan &lt; 10.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med event (not a task delay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(delay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lay value is in seconds. It is delclared internally as a double and constant arguments to the delay fun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a decimal poin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lay is normally reset whenever the state containing it is exited. Use the state specif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-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keep it from being reset when exiting to the same stat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vents (continued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9144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rnally generated event (event fla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(efTestAndClear(myfla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(efTest(myfla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clear the flag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Cl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called sometime later to avoid an infinite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vent flag can be set internally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vent_flag_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f the flag is synced to a monitored channel it will be set 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nel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in the channel access connection stat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(pvConnectCount() &lt; pvChannelCoun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(pvConnected(mychan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9144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t-in action function, e.g.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ariable_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ariable_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vent_flag_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Cl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event_flag_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ny C ex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s not implemented and code using it must be esc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 escape one line of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pe any number of lines of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1067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- State Definitions and Transi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200400" y="20574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3800" y="2057400"/>
            <a:ext cx="1640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essure &gt; .00000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ghPump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Pump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v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58760" y="2108160"/>
            <a:ext cx="174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essure &lt;= .00000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ghPump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Pump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ve 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2057400"/>
            <a:ext cx="99036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3657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29960" y="2743200"/>
            <a:ext cx="174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essure &lt;= .00000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ghPump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Pump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ve 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880" y="3962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6280" y="4114800"/>
            <a:ext cx="1640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essure &gt; .00000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ghPump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Pump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v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1148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69440" y="4191120"/>
            <a:ext cx="159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1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ghPump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Pump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v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1219320"/>
            <a:ext cx="1733400" cy="78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5257800"/>
            <a:ext cx="1733400" cy="78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352680"/>
            <a:ext cx="1733400" cy="78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Vac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7400" y="3276720"/>
            <a:ext cx="1733400" cy="78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Vac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- Declara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9144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essur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ressu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Tank1Coupler1PressureRB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ni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ressur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RoughPu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RoughPum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Tank1Coupler1RoughPump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ryoPu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yoPum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Tank1Coupler1CryoPump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alv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al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Tank1Coupler1IsolationValve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urrentStat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urrentSt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Tank1Coupler1VacuumState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91440" cy="46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State Notation Language (S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does it fit in the EPICS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of a state notation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Notes on the Runtime Sequen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, running and debugging a state notation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o use 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alk covers Sequencer version 2.0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alk does not cover all the features of SNL and the sequencer. Consult the manual for more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lac.stanford.edu/comp/unix/package/epics/sequence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– State Transi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91800" cy="54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acuum_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pler_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it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sure &gt; .0000051)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w_vacu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sure &lt;= .0000049)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_vacu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igh_vacuum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sure &gt; .0000051)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w_vacu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w_vacuum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sure &lt;= .0000049)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igh_vacu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elay(600.0))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a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ult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– Init Stat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91440" cy="54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it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cpy(CurrentState,”Init”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urrentStat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ressure &gt; .0000051)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ghPump =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oughPum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yoPump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ryoPum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ve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alv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ow_vacu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ressure &lt;= .0000049)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ghPump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oughPum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yoPump =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ryoPum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ve = 1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Valv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gh_vacu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– State low_vacuum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91800" cy="49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ow_vacuum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cpy(CurrentState,”Low Vacuum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urrentStat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ressure &lt;= .0000049)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ghPump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oughPum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yoPump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yoPum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ve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v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high_vacu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(600.0))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a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– State high_vacuum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9144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high_vacuum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cpy(CurrentState,”High Vacuum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urrentStat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ressure &gt; .0000051)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ghPump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oughPum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yoPump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yoPum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ve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v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ow_vacu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ample – State faul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ult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cpy(CurrentState,”Vacuum Fault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urrentStat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Building an SNL program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93432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editor to build the source file:  file name must end with  ".st", e.g. "example.st"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” automates these ste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ly runs the C pre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s the state program with SNC to produce C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nc  example.st  -&gt;  example.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s the resultant C code with the C compil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 example.c -&gt; example.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"example.o” becomes part of the application library, which is ready to be loaded by Vx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systems an executable file “example”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391520" y="1219320"/>
            <a:ext cx="14335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un Time Sequenc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91800" cy="48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quencer executes the state progr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quencer supports the event-driven execution; no polling nee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tate set becomes a VxWorks task or UNIX thre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quencer manages connections to database channels through "channel access"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quencer provides support for channel access (put, get, and monito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quencer supports asynchronous execution of delay, event flag, pv put and pv get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one copy (object module) of the sequencer is required on an IO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y commands display information about executing state progra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ecuting a State Program – IO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you are at an IOC console and database is load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the sequen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 &lt; pv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 &lt; seq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a stat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 &lt; example.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&amp;vacuum_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… That’s it! Exercis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top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Stop vacuum_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191440" cy="41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pecial state program query comman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plays information on all running state progra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Show vacuum_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plays detailed information on progr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ChanShow vacuum_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plays information on all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ChanShow vacuum_control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plays information on all disconnected chann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bugging (continued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printf functions to print to the conso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Here I am in state xyz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strings to pv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rintf(seqMsg1, "Here I am in state xyz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Put(seqMsg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oad and re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Stop vacuum_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 &lt; example.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Start &amp;vacuum_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188040" y="3200400"/>
            <a:ext cx="26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NL and the Sequenc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0480" y="1168560"/>
            <a:ext cx="8191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quencer runs programs written in State Notation Language (S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L is a ‘C’ like language to facilitate programming of sequential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execution - compiled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ng interface to extend EPICS in the real-time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u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utomated start-up sequences like vacuum or RF where subsystems nee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fault recovery or transition to a saf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utomatic calibration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70920" y="1668600"/>
            <a:ext cx="4125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bugging - seqSho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Sh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2286000"/>
            <a:ext cx="8001000" cy="20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pics&gt; seqSh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Name     Thread ID  Thread Name      SS Na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bilizer       ede78      stabilizer       stabilizerSS1  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amTrajectory   db360      beamTrajectory   bpmTrajectoryS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oControl      ed620      autoControl      autoCtlSS    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057400"/>
            <a:ext cx="7620120" cy="365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bugging - seqSho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91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Show stabiliz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1752480"/>
            <a:ext cx="7162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ics&gt; seqShow stabiliz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e Program: "stabilizer"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initial thread id = ede7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thread priority = 5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umber of state sets =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umber of syncQ queues = 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umber of channels =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umber of channels assigned =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umber of channels connected =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options: async=0, debug=0, newef=1, reent=0, conn=1, main=0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State Set: "stabilizerSS1"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thread name = stabilizer;  thread id = 974456 = 0xede7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First state = "init"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Current state = "waitForEnable"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Previous state = "init"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Elapsed time since state was entered = 88.8 second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1523880"/>
            <a:ext cx="7010280" cy="441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ebugging - seqChanSho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91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ChanShow stabiliz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1080" y="1447920"/>
            <a:ext cx="5791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pics&gt; seqChanShow stabiliz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tate Program: "stabilizer"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Number of channels=3</a:t>
            </a:r>
            <a:br>
              <a:rPr sz="1300"/>
            </a:b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#1 of 3: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hannel name: "jfm:OP:stabilizerC"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Unexpanded (assigned) name: "{user}:OP:stabilizerC"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Variable name: "enableButton"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address = 154120 = 0x25a08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type = shor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count = 1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Value = 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Monitor flag = 1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Monitor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Assign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Connect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Get not completed or no get issu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Put not completed or no put issu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Status = 17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Severity = 3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Message =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Time stamp = &lt;undefined&gt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Next? ( skip count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1371600"/>
            <a:ext cx="6095880" cy="472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51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managem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 ( pvConnectCount() != pvChannelCount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 ( pvConnected(Vin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r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ign Vout to "{unit}:OutputV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use the +r compiler options for this if more than one copy of the sequence is running on the same i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&amp;example, "unit=HV0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iler op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r make program reentrant  (default is -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 don't wait for all channel connections (default is +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a asynchronous pvGet() (default is 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 don't print compiler warnings (default is +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e eftest automatically clears flag (default is -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dditional Features (continued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368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s to alarm status and severit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Status(var_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Severity(var_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ueable monitors -- saves monitors in queue in the order they come in -- no missing monit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Q variableName to eventFlag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optionally the length of the queu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GetQ( variableName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s oldest value from variables monitor queue. Remains true until queue is empty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vFreeQ( variable Nam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implement complicated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stop, reload, restart a sequence program without rebo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 with the operator through string records and mbbo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code can be embedded as part of the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hannel Access details are taken care of for 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access can be implemented as part of the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865080" y="1998720"/>
          <a:ext cx="350856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998720"/>
                    <a:ext cx="350856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hen to use the sequenc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054080"/>
            <a:ext cx="4019400" cy="9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equencing complex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Parking and unparking a telescope mi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422600" y="1428840"/>
            <a:ext cx="4432320" cy="4630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96480" y="6026040"/>
            <a:ext cx="39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graph courtesy of the Gemini Telescopes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hould I Use the Sequencer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990720"/>
            <a:ext cx="1066680" cy="38088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65040" y="106668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600200"/>
            <a:ext cx="1676520" cy="129528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9810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 I DO THIS IN A DB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07320" y="198108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97680" y="281952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3260880"/>
            <a:ext cx="1676520" cy="129528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3641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 I DO THIS IN A DB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07320" y="364176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0520" y="44798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4876920"/>
            <a:ext cx="1447920" cy="60948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49528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 THE SEQUE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4876920"/>
            <a:ext cx="1447920" cy="60948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49528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 A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5791320"/>
            <a:ext cx="1066680" cy="38088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41000" y="5867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22096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22096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88620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56386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5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 for this presentation have been taken from talks prepared by the following peo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Dalesio (LANL/SNS/LC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 Kerstiens (LA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elle Wright (LA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 Arnold (APS-Contr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here’s the Sequencer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3040" y="1779480"/>
            <a:ext cx="541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53960" y="3809880"/>
            <a:ext cx="293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40040" y="2378160"/>
            <a:ext cx="5095800" cy="24796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28880" y="2378160"/>
            <a:ext cx="34117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90680" y="1378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0560" y="177336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70440" y="2797200"/>
            <a:ext cx="296640" cy="38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65760" y="2797200"/>
            <a:ext cx="23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5440" y="4440240"/>
            <a:ext cx="26510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1680" y="5475240"/>
            <a:ext cx="48168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71880" y="4094280"/>
            <a:ext cx="0" cy="347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38240" y="23842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4840" y="949320"/>
            <a:ext cx="70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jor software components of an IOC (IOC 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25760" y="487368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68480" y="3191040"/>
            <a:ext cx="2219400" cy="8942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9200" y="3182760"/>
            <a:ext cx="159228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here’s the Sequencer Now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589040"/>
            <a:ext cx="974880" cy="392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D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5200" y="1589040"/>
            <a:ext cx="976320" cy="392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32480" y="1589040"/>
            <a:ext cx="976320" cy="392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30840" y="1589040"/>
            <a:ext cx="974880" cy="392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7760" y="1589040"/>
            <a:ext cx="974880" cy="392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D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95520" y="4191120"/>
            <a:ext cx="974520" cy="401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11840" y="4191120"/>
            <a:ext cx="976320" cy="4172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72160" y="4191120"/>
            <a:ext cx="976320" cy="4172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24240" y="5186520"/>
            <a:ext cx="839880" cy="365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0" y="5186520"/>
            <a:ext cx="1689120" cy="365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wer Supp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3040" y="5186520"/>
            <a:ext cx="936360" cy="365040"/>
          </a:xfrm>
          <a:prstGeom prst="rect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5" idx="2"/>
            <a:endCxn id="131" idx="0"/>
          </p:cNvCxnSpPr>
          <p:nvPr/>
        </p:nvCxnSpPr>
        <p:spPr>
          <a:xfrm>
            <a:off x="3741480" y="4605480"/>
            <a:ext cx="3960" cy="56880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9" idx="2"/>
            <a:endCxn id="132" idx="0"/>
          </p:cNvCxnSpPr>
          <p:nvPr/>
        </p:nvCxnSpPr>
        <p:spPr>
          <a:xfrm>
            <a:off x="5400720" y="4621320"/>
            <a:ext cx="2160" cy="55296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0" idx="2"/>
            <a:endCxn id="133" idx="0"/>
          </p:cNvCxnSpPr>
          <p:nvPr/>
        </p:nvCxnSpPr>
        <p:spPr>
          <a:xfrm>
            <a:off x="7060680" y="4621320"/>
            <a:ext cx="1080" cy="55296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3252960" y="4191120"/>
            <a:ext cx="976320" cy="401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71680"/>
            <a:ext cx="6756480" cy="585720"/>
          </a:xfrm>
          <a:prstGeom prst="rect">
            <a:avLst/>
          </a:prstGeom>
          <a:noFill/>
          <a:ln w="255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38680" y="1089000"/>
            <a:ext cx="14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600200"/>
            <a:ext cx="114300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quenc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1240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52480" y="1980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95480" y="1980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038480" y="1980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48520" y="1980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315200" y="19807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33720" y="3124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33920" y="3124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10080" y="3124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086600" y="3124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2520" y="2819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Best Place for the Sequenc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460160"/>
            <a:ext cx="5016600" cy="33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equencer Version 2.0.0 can be either in the IOC or on a work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ly in the I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ng it in the IOC probably makes it easier to ma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on workstation could make testing eas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tation gives an easy way to write the CA parts of CA cl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718000" cy="153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43600" y="3124080"/>
            <a:ext cx="25304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NL implements State Transition Diagram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73560" y="1776240"/>
            <a:ext cx="227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49840" y="1776240"/>
            <a:ext cx="1800" cy="9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73200" y="2687760"/>
            <a:ext cx="227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73560" y="1776240"/>
            <a:ext cx="1440" cy="9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4000" y="1973160"/>
            <a:ext cx="94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73560" y="4054320"/>
            <a:ext cx="227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49840" y="4054320"/>
            <a:ext cx="180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373200" y="4967280"/>
            <a:ext cx="227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73560" y="4054320"/>
            <a:ext cx="144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06160" y="4297320"/>
            <a:ext cx="92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94280" y="3327480"/>
            <a:ext cx="148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02320" y="2946240"/>
            <a:ext cx="77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8840" y="329400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4120" y="296388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360" y="3255840"/>
            <a:ext cx="86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431040" y="2979720"/>
            <a:ext cx="4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431040" y="2979720"/>
            <a:ext cx="4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9720" y="1093680"/>
            <a:ext cx="324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13320" y="1495080"/>
            <a:ext cx="76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38800" y="1495440"/>
            <a:ext cx="152280" cy="282600"/>
            <a:chOff x="4438800" y="1495440"/>
            <a:chExt cx="152280" cy="282600"/>
          </a:xfrm>
        </p:grpSpPr>
        <p:sp>
          <p:nvSpPr>
            <p:cNvPr id="178" name=""/>
            <p:cNvSpPr/>
            <p:nvPr/>
          </p:nvSpPr>
          <p:spPr>
            <a:xfrm>
              <a:off x="4513320" y="1495440"/>
              <a:ext cx="77400" cy="282600"/>
            </a:xfrm>
            <a:custGeom>
              <a:avLst/>
              <a:gdLst/>
              <a:ahLst/>
              <a:rect l="l" t="t" r="r" b="b"/>
              <a:pathLst>
                <a:path w="49" h="178">
                  <a:moveTo>
                    <a:pt x="0" y="27"/>
                  </a:moveTo>
                  <a:lnTo>
                    <a:pt x="48" y="0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38800" y="1495440"/>
              <a:ext cx="152280" cy="282600"/>
            </a:xfrm>
            <a:custGeom>
              <a:avLst/>
              <a:gdLst/>
              <a:ahLst/>
              <a:rect l="l" t="t" r="r" b="b"/>
              <a:pathLst>
                <a:path w="96" h="178">
                  <a:moveTo>
                    <a:pt x="47" y="27"/>
                  </a:moveTo>
                  <a:lnTo>
                    <a:pt x="95" y="0"/>
                  </a:lnTo>
                  <a:lnTo>
                    <a:pt x="47" y="1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438800" y="1495440"/>
            <a:ext cx="152280" cy="282600"/>
          </a:xfrm>
          <a:custGeom>
            <a:avLst/>
            <a:gdLst/>
            <a:ahLst/>
            <a:rect l="l" t="t" r="r" b="b"/>
            <a:pathLst>
              <a:path w="96" h="178">
                <a:moveTo>
                  <a:pt x="47" y="27"/>
                </a:moveTo>
                <a:lnTo>
                  <a:pt x="95" y="0"/>
                </a:lnTo>
                <a:lnTo>
                  <a:pt x="47" y="177"/>
                </a:lnTo>
                <a:lnTo>
                  <a:pt x="0" y="0"/>
                </a:lnTo>
                <a:lnTo>
                  <a:pt x="47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509720" y="4967280"/>
            <a:ext cx="324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13320" y="5368680"/>
            <a:ext cx="7632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38800" y="5369040"/>
            <a:ext cx="152280" cy="282600"/>
            <a:chOff x="4438800" y="5369040"/>
            <a:chExt cx="152280" cy="282600"/>
          </a:xfrm>
        </p:grpSpPr>
        <p:sp>
          <p:nvSpPr>
            <p:cNvPr id="184" name=""/>
            <p:cNvSpPr/>
            <p:nvPr/>
          </p:nvSpPr>
          <p:spPr>
            <a:xfrm>
              <a:off x="4513320" y="5369040"/>
              <a:ext cx="77400" cy="282600"/>
            </a:xfrm>
            <a:custGeom>
              <a:avLst/>
              <a:gdLst/>
              <a:ahLst/>
              <a:rect l="l" t="t" r="r" b="b"/>
              <a:pathLst>
                <a:path w="49" h="178">
                  <a:moveTo>
                    <a:pt x="0" y="28"/>
                  </a:moveTo>
                  <a:lnTo>
                    <a:pt x="48" y="0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38800" y="5369040"/>
              <a:ext cx="152280" cy="282600"/>
            </a:xfrm>
            <a:custGeom>
              <a:avLst/>
              <a:gdLst/>
              <a:ahLst/>
              <a:rect l="l" t="t" r="r" b="b"/>
              <a:pathLst>
                <a:path w="96" h="178">
                  <a:moveTo>
                    <a:pt x="47" y="28"/>
                  </a:moveTo>
                  <a:lnTo>
                    <a:pt x="95" y="0"/>
                  </a:lnTo>
                  <a:lnTo>
                    <a:pt x="47" y="1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438800" y="5369040"/>
            <a:ext cx="152280" cy="282600"/>
          </a:xfrm>
          <a:custGeom>
            <a:avLst/>
            <a:gdLst/>
            <a:ahLst/>
            <a:rect l="l" t="t" r="r" b="b"/>
            <a:pathLst>
              <a:path w="96" h="178">
                <a:moveTo>
                  <a:pt x="47" y="28"/>
                </a:moveTo>
                <a:lnTo>
                  <a:pt x="95" y="0"/>
                </a:lnTo>
                <a:lnTo>
                  <a:pt x="47" y="177"/>
                </a:lnTo>
                <a:lnTo>
                  <a:pt x="0" y="0"/>
                </a:lnTo>
                <a:lnTo>
                  <a:pt x="47" y="2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509720" y="2687760"/>
            <a:ext cx="3240" cy="13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13320" y="3773160"/>
            <a:ext cx="7632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38800" y="3773520"/>
            <a:ext cx="152280" cy="282240"/>
            <a:chOff x="4438800" y="3773520"/>
            <a:chExt cx="152280" cy="282240"/>
          </a:xfrm>
        </p:grpSpPr>
        <p:sp>
          <p:nvSpPr>
            <p:cNvPr id="190" name=""/>
            <p:cNvSpPr/>
            <p:nvPr/>
          </p:nvSpPr>
          <p:spPr>
            <a:xfrm>
              <a:off x="4513320" y="3773520"/>
              <a:ext cx="77400" cy="282240"/>
            </a:xfrm>
            <a:custGeom>
              <a:avLst/>
              <a:gdLst/>
              <a:ahLst/>
              <a:rect l="l" t="t" r="r" b="b"/>
              <a:pathLst>
                <a:path w="49" h="178">
                  <a:moveTo>
                    <a:pt x="0" y="28"/>
                  </a:moveTo>
                  <a:lnTo>
                    <a:pt x="48" y="0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38800" y="3773520"/>
              <a:ext cx="152280" cy="282240"/>
            </a:xfrm>
            <a:custGeom>
              <a:avLst/>
              <a:gdLst/>
              <a:ahLst/>
              <a:rect l="l" t="t" r="r" b="b"/>
              <a:pathLst>
                <a:path w="96" h="178">
                  <a:moveTo>
                    <a:pt x="47" y="28"/>
                  </a:moveTo>
                  <a:lnTo>
                    <a:pt x="95" y="0"/>
                  </a:lnTo>
                  <a:lnTo>
                    <a:pt x="47" y="1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438800" y="3773520"/>
            <a:ext cx="152280" cy="282600"/>
          </a:xfrm>
          <a:custGeom>
            <a:avLst/>
            <a:gdLst/>
            <a:ahLst/>
            <a:rect l="l" t="t" r="r" b="b"/>
            <a:pathLst>
              <a:path w="96" h="178">
                <a:moveTo>
                  <a:pt x="47" y="28"/>
                </a:moveTo>
                <a:lnTo>
                  <a:pt x="95" y="0"/>
                </a:lnTo>
                <a:lnTo>
                  <a:pt x="47" y="177"/>
                </a:lnTo>
                <a:lnTo>
                  <a:pt x="0" y="0"/>
                </a:lnTo>
                <a:lnTo>
                  <a:pt x="47" y="2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4920" y="2963880"/>
            <a:ext cx="63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4920" y="3421080"/>
            <a:ext cx="63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646520" y="3262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722840" y="2881080"/>
            <a:ext cx="152280" cy="75960"/>
            <a:chOff x="4722840" y="2881080"/>
            <a:chExt cx="152280" cy="75960"/>
          </a:xfrm>
        </p:grpSpPr>
        <p:sp>
          <p:nvSpPr>
            <p:cNvPr id="197" name=""/>
            <p:cNvSpPr/>
            <p:nvPr/>
          </p:nvSpPr>
          <p:spPr>
            <a:xfrm flipV="1">
              <a:off x="4798800" y="288108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722840" y="288108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799160" y="371952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2840" y="371952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646520" y="33382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TD Examp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468600" y="3215880"/>
            <a:ext cx="46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468600" y="3215880"/>
            <a:ext cx="46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19520" y="95076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28840" y="204156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1520" y="20415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28480" y="274644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28840" y="20415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32080" y="2143080"/>
            <a:ext cx="152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31000" y="4276800"/>
            <a:ext cx="156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35440" y="329400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8280" y="285264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&gt; 5.1 uTo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8160" y="33703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28840" y="415296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51520" y="41529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228480" y="485784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28840" y="41529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95840" y="53341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7400" y="4910040"/>
            <a:ext cx="250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&lt; 4.9 uTo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68920" y="5410080"/>
            <a:ext cx="192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90520" y="5796000"/>
            <a:ext cx="20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90880" y="2395440"/>
            <a:ext cx="0" cy="340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136760" y="1339920"/>
            <a:ext cx="324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40360" y="1752480"/>
            <a:ext cx="75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064040" y="1752480"/>
            <a:ext cx="154080" cy="293400"/>
            <a:chOff x="4064040" y="1752480"/>
            <a:chExt cx="154080" cy="293400"/>
          </a:xfrm>
        </p:grpSpPr>
        <p:sp>
          <p:nvSpPr>
            <p:cNvPr id="227" name=""/>
            <p:cNvSpPr/>
            <p:nvPr/>
          </p:nvSpPr>
          <p:spPr>
            <a:xfrm>
              <a:off x="4140360" y="1752480"/>
              <a:ext cx="77760" cy="293400"/>
            </a:xfrm>
            <a:custGeom>
              <a:avLst/>
              <a:gdLst/>
              <a:ahLst/>
              <a:rect l="l" t="t" r="r" b="b"/>
              <a:pathLst>
                <a:path w="49" h="185">
                  <a:moveTo>
                    <a:pt x="0" y="29"/>
                  </a:moveTo>
                  <a:lnTo>
                    <a:pt x="48" y="0"/>
                  </a:lnTo>
                  <a:lnTo>
                    <a:pt x="0" y="1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4040" y="1752480"/>
              <a:ext cx="154080" cy="29340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48" y="29"/>
                  </a:moveTo>
                  <a:lnTo>
                    <a:pt x="96" y="0"/>
                  </a:lnTo>
                  <a:lnTo>
                    <a:pt x="48" y="18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064040" y="1752480"/>
            <a:ext cx="154080" cy="293760"/>
          </a:xfrm>
          <a:custGeom>
            <a:avLst/>
            <a:gdLst/>
            <a:ahLst/>
            <a:rect l="l" t="t" r="r" b="b"/>
            <a:pathLst>
              <a:path w="97" h="185">
                <a:moveTo>
                  <a:pt x="48" y="29"/>
                </a:moveTo>
                <a:lnTo>
                  <a:pt x="96" y="0"/>
                </a:lnTo>
                <a:lnTo>
                  <a:pt x="48" y="184"/>
                </a:lnTo>
                <a:lnTo>
                  <a:pt x="0" y="0"/>
                </a:lnTo>
                <a:lnTo>
                  <a:pt x="48" y="2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46080"/>
            <a:ext cx="1440" cy="14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140360" y="3863880"/>
            <a:ext cx="75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064040" y="3863880"/>
            <a:ext cx="154080" cy="292320"/>
            <a:chOff x="4064040" y="3863880"/>
            <a:chExt cx="154080" cy="292320"/>
          </a:xfrm>
        </p:grpSpPr>
        <p:sp>
          <p:nvSpPr>
            <p:cNvPr id="233" name=""/>
            <p:cNvSpPr/>
            <p:nvPr/>
          </p:nvSpPr>
          <p:spPr>
            <a:xfrm>
              <a:off x="4140360" y="3863880"/>
              <a:ext cx="77760" cy="292320"/>
            </a:xfrm>
            <a:custGeom>
              <a:avLst/>
              <a:gdLst/>
              <a:ahLst/>
              <a:rect l="l" t="t" r="r" b="b"/>
              <a:pathLst>
                <a:path w="49" h="184">
                  <a:moveTo>
                    <a:pt x="0" y="29"/>
                  </a:moveTo>
                  <a:lnTo>
                    <a:pt x="48" y="0"/>
                  </a:lnTo>
                  <a:lnTo>
                    <a:pt x="0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64040" y="3863880"/>
              <a:ext cx="154080" cy="292320"/>
            </a:xfrm>
            <a:custGeom>
              <a:avLst/>
              <a:gdLst/>
              <a:ahLst/>
              <a:rect l="l" t="t" r="r" b="b"/>
              <a:pathLst>
                <a:path w="97" h="184">
                  <a:moveTo>
                    <a:pt x="48" y="29"/>
                  </a:moveTo>
                  <a:lnTo>
                    <a:pt x="96" y="0"/>
                  </a:lnTo>
                  <a:lnTo>
                    <a:pt x="48" y="1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064040" y="3863880"/>
            <a:ext cx="154080" cy="292320"/>
          </a:xfrm>
          <a:custGeom>
            <a:avLst/>
            <a:gdLst/>
            <a:ahLst/>
            <a:rect l="l" t="t" r="r" b="b"/>
            <a:pathLst>
              <a:path w="97" h="184">
                <a:moveTo>
                  <a:pt x="48" y="29"/>
                </a:moveTo>
                <a:lnTo>
                  <a:pt x="96" y="0"/>
                </a:lnTo>
                <a:lnTo>
                  <a:pt x="48" y="183"/>
                </a:lnTo>
                <a:lnTo>
                  <a:pt x="0" y="0"/>
                </a:lnTo>
                <a:lnTo>
                  <a:pt x="48" y="2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4148280" y="4834080"/>
            <a:ext cx="28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140360" y="5506560"/>
            <a:ext cx="7596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064040" y="5506920"/>
            <a:ext cx="154080" cy="290520"/>
            <a:chOff x="4064040" y="5506920"/>
            <a:chExt cx="154080" cy="290520"/>
          </a:xfrm>
        </p:grpSpPr>
        <p:sp>
          <p:nvSpPr>
            <p:cNvPr id="239" name=""/>
            <p:cNvSpPr/>
            <p:nvPr/>
          </p:nvSpPr>
          <p:spPr>
            <a:xfrm>
              <a:off x="4140360" y="5506920"/>
              <a:ext cx="77760" cy="290520"/>
            </a:xfrm>
            <a:custGeom>
              <a:avLst/>
              <a:gdLst/>
              <a:ahLst/>
              <a:rect l="l" t="t" r="r" b="b"/>
              <a:pathLst>
                <a:path w="49" h="183">
                  <a:moveTo>
                    <a:pt x="0" y="27"/>
                  </a:moveTo>
                  <a:lnTo>
                    <a:pt x="48" y="0"/>
                  </a:lnTo>
                  <a:lnTo>
                    <a:pt x="0" y="1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4040" y="5506920"/>
              <a:ext cx="154080" cy="290520"/>
            </a:xfrm>
            <a:custGeom>
              <a:avLst/>
              <a:gdLst/>
              <a:ahLst/>
              <a:rect l="l" t="t" r="r" b="b"/>
              <a:pathLst>
                <a:path w="97" h="183">
                  <a:moveTo>
                    <a:pt x="48" y="27"/>
                  </a:moveTo>
                  <a:lnTo>
                    <a:pt x="96" y="0"/>
                  </a:lnTo>
                  <a:lnTo>
                    <a:pt x="48" y="18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064040" y="5506920"/>
            <a:ext cx="154080" cy="290520"/>
          </a:xfrm>
          <a:custGeom>
            <a:avLst/>
            <a:gdLst/>
            <a:ahLst/>
            <a:rect l="l" t="t" r="r" b="b"/>
            <a:pathLst>
              <a:path w="97" h="183">
                <a:moveTo>
                  <a:pt x="48" y="27"/>
                </a:moveTo>
                <a:lnTo>
                  <a:pt x="96" y="0"/>
                </a:lnTo>
                <a:lnTo>
                  <a:pt x="48" y="182"/>
                </a:lnTo>
                <a:lnTo>
                  <a:pt x="0" y="0"/>
                </a:lnTo>
                <a:lnTo>
                  <a:pt x="48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091960" y="2371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946240" y="2316240"/>
            <a:ext cx="446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946240" y="2316240"/>
            <a:ext cx="284400" cy="158760"/>
            <a:chOff x="2946240" y="2316240"/>
            <a:chExt cx="284400" cy="158760"/>
          </a:xfrm>
        </p:grpSpPr>
        <p:sp>
          <p:nvSpPr>
            <p:cNvPr id="245" name=""/>
            <p:cNvSpPr/>
            <p:nvPr/>
          </p:nvSpPr>
          <p:spPr>
            <a:xfrm>
              <a:off x="2946240" y="2316240"/>
              <a:ext cx="284400" cy="81000"/>
            </a:xfrm>
            <a:custGeom>
              <a:avLst/>
              <a:gdLst/>
              <a:ahLst/>
              <a:rect l="l" t="t" r="r" b="b"/>
              <a:pathLst>
                <a:path w="179" h="51">
                  <a:moveTo>
                    <a:pt x="28" y="50"/>
                  </a:moveTo>
                  <a:lnTo>
                    <a:pt x="0" y="0"/>
                  </a:lnTo>
                  <a:lnTo>
                    <a:pt x="178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46240" y="2316240"/>
              <a:ext cx="284400" cy="158760"/>
            </a:xfrm>
            <a:custGeom>
              <a:avLst/>
              <a:gdLst/>
              <a:ahLst/>
              <a:rect l="l" t="t" r="r" b="b"/>
              <a:pathLst>
                <a:path w="179" h="100">
                  <a:moveTo>
                    <a:pt x="28" y="50"/>
                  </a:moveTo>
                  <a:lnTo>
                    <a:pt x="0" y="0"/>
                  </a:lnTo>
                  <a:lnTo>
                    <a:pt x="178" y="5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946240" y="2316240"/>
            <a:ext cx="284400" cy="158760"/>
          </a:xfrm>
          <a:custGeom>
            <a:avLst/>
            <a:gdLst/>
            <a:ahLst/>
            <a:rect l="l" t="t" r="r" b="b"/>
            <a:pathLst>
              <a:path w="179" h="100">
                <a:moveTo>
                  <a:pt x="28" y="50"/>
                </a:moveTo>
                <a:lnTo>
                  <a:pt x="0" y="0"/>
                </a:lnTo>
                <a:lnTo>
                  <a:pt x="178" y="50"/>
                </a:lnTo>
                <a:lnTo>
                  <a:pt x="0" y="99"/>
                </a:lnTo>
                <a:lnTo>
                  <a:pt x="28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N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State Nota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N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State Notation Comp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The tool that executes the compiled SNL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A complete SNL application consisting of declarations and one or more state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A set of states that make a complete finite state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 particular mode of the state set in which it remains until one of its transition conditions is evaluated to be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47:03Z</dcterms:created>
  <dc:creator>Jfm</dc:creator>
  <dc:description/>
  <dc:language>en-US</dc:language>
  <cp:lastModifiedBy>Jfm</cp:lastModifiedBy>
  <dcterms:modified xsi:type="dcterms:W3CDTF">2004-11-11T19:53:44Z</dcterms:modified>
  <cp:revision>31</cp:revision>
  <dc:subject/>
  <dc:title>Getting Started with EPICS Lecture Series</dc:title>
</cp:coreProperties>
</file>